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A54-74B0-417E-8DE9-0474345A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6EC-7CC3-4048-94AD-0C11C706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500-BA87-4A1F-8BB2-27317623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B8B-5747-4511-B267-54AF4D1B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4D31-F78E-4134-A70D-8D86CD1E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8803-D92A-4F60-935D-80682EBB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CC0F-179B-467E-B8FB-5097FDA5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5DF-517E-499D-B758-A6B50408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BDDD-E12F-47B7-B0D8-77D98F4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AA43-3028-4827-AC86-315183A7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0B8A-3506-4F12-85FF-6B6CF7A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F0B-B5FE-471F-AF4B-2633FBF9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81BE-9CCB-4888-B5E9-D881C97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305D-EECF-46BE-862D-D1397608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664E-3ADB-4F1A-B02D-B54AC168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578A-1CBF-4F75-9A57-36A662BA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736E-781B-4D65-AAD2-8757EEBA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E07-7197-465F-91D5-06EDFEC3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223-D586-4CDE-96AB-41C41461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FC2-5710-4D69-A5BB-F84318C8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6C3-3B36-4C3F-A43A-0E54055C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134-EE0D-43AB-8273-A26281C2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9B6-C0A7-4985-8C91-C7830662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891-37F1-457A-84F6-8AF30592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A026-CB16-42F1-A589-C965E169FC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D092-A5DF-4B1D-876E-F6A399B437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Thursday, December 10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3.  Find the sine, cosine and tangent of 16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16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13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+ 30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6900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4.  Find the exact values of the sine, cosine and tangent of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17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17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7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+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Page 408</a:t>
            </a:r>
            <a:br>
              <a:rPr sz="7500"/>
            </a:b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#9, 13, 15</a:t>
            </a:r>
            <a:endParaRPr b="0" lang="en-US" sz="75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Go Over p. 408 (1-7a,9,15)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95934b"/>
                </a:solidFill>
                <a:latin typeface="Tahoma"/>
              </a:rPr>
              <a:t>Lesson 5.4</a:t>
            </a:r>
            <a:br>
              <a:rPr sz="8500"/>
            </a:br>
            <a:r>
              <a:rPr b="0" lang="en-US" sz="8500" spc="-1" strike="noStrike">
                <a:solidFill>
                  <a:srgbClr val="95934b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So, why are the sum and difference formulas used?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To find the trig values of measures NOT on the unit circle!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1.  Find the exact values of the sine, cosine and tangent of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+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8" name="Ink 5"/>
          <p:cNvSpPr/>
          <p:nvPr/>
        </p:nvSpPr>
        <p:spPr>
          <a:xfrm>
            <a:off x="411120" y="2438280"/>
            <a:ext cx="758880" cy="463680"/>
          </a:xfrm>
          <a:custGeom>
            <a:avLst/>
            <a:gdLst/>
            <a:ahLst/>
            <a:rect l="l" t="t" r="r" b="b"/>
            <a:pathLst>
              <a:path w="2109" h="1291">
                <a:moveTo>
                  <a:pt x="1736" y="6896"/>
                </a:moveTo>
                <a:cubicBezTo>
                  <a:pt x="1736" y="7048"/>
                  <a:pt x="1731" y="7204"/>
                  <a:pt x="1712" y="7342"/>
                </a:cubicBezTo>
                <a:cubicBezTo>
                  <a:pt x="1698" y="7442"/>
                  <a:pt x="1703" y="7543"/>
                  <a:pt x="1687" y="7640"/>
                </a:cubicBezTo>
                <a:cubicBezTo>
                  <a:pt x="1671" y="7738"/>
                  <a:pt x="1678" y="7843"/>
                  <a:pt x="1662" y="7938"/>
                </a:cubicBezTo>
                <a:cubicBezTo>
                  <a:pt x="1662" y="7987"/>
                  <a:pt x="1662" y="8003"/>
                  <a:pt x="1662" y="7938"/>
                </a:cubicBezTo>
              </a:path>
              <a:path w="2109" h="1291">
                <a:moveTo>
                  <a:pt x="1141" y="6821"/>
                </a:moveTo>
                <a:cubicBezTo>
                  <a:pt x="1334" y="6821"/>
                  <a:pt x="1522" y="6816"/>
                  <a:pt x="1712" y="6796"/>
                </a:cubicBezTo>
                <a:cubicBezTo>
                  <a:pt x="1803" y="6786"/>
                  <a:pt x="2052" y="6752"/>
                  <a:pt x="2133" y="6772"/>
                </a:cubicBezTo>
                <a:cubicBezTo>
                  <a:pt x="2133" y="6780"/>
                  <a:pt x="2133" y="6788"/>
                  <a:pt x="2133" y="6796"/>
                </a:cubicBezTo>
              </a:path>
              <a:path w="2109" h="1291">
                <a:moveTo>
                  <a:pt x="2456" y="7714"/>
                </a:moveTo>
                <a:cubicBezTo>
                  <a:pt x="2456" y="7639"/>
                  <a:pt x="2471" y="7546"/>
                  <a:pt x="2406" y="7491"/>
                </a:cubicBezTo>
                <a:cubicBezTo>
                  <a:pt x="2354" y="7447"/>
                  <a:pt x="2281" y="7450"/>
                  <a:pt x="2232" y="7466"/>
                </a:cubicBezTo>
                <a:cubicBezTo>
                  <a:pt x="2150" y="7492"/>
                  <a:pt x="2126" y="7518"/>
                  <a:pt x="2084" y="7590"/>
                </a:cubicBezTo>
                <a:cubicBezTo>
                  <a:pt x="2060" y="7630"/>
                  <a:pt x="1995" y="7698"/>
                  <a:pt x="1984" y="7739"/>
                </a:cubicBezTo>
                <a:cubicBezTo>
                  <a:pt x="1964" y="7815"/>
                  <a:pt x="1987" y="7905"/>
                  <a:pt x="2034" y="7962"/>
                </a:cubicBezTo>
                <a:cubicBezTo>
                  <a:pt x="2077" y="8014"/>
                  <a:pt x="2108" y="8052"/>
                  <a:pt x="2183" y="8037"/>
                </a:cubicBezTo>
                <a:cubicBezTo>
                  <a:pt x="2283" y="8017"/>
                  <a:pt x="2289" y="7961"/>
                  <a:pt x="2332" y="7888"/>
                </a:cubicBezTo>
                <a:cubicBezTo>
                  <a:pt x="2362" y="7838"/>
                  <a:pt x="2380" y="7687"/>
                  <a:pt x="2406" y="7739"/>
                </a:cubicBezTo>
                <a:cubicBezTo>
                  <a:pt x="2429" y="7786"/>
                  <a:pt x="2431" y="7839"/>
                  <a:pt x="2456" y="7888"/>
                </a:cubicBezTo>
                <a:cubicBezTo>
                  <a:pt x="2500" y="7972"/>
                  <a:pt x="2509" y="8002"/>
                  <a:pt x="2604" y="8012"/>
                </a:cubicBezTo>
                <a:cubicBezTo>
                  <a:pt x="2649" y="8012"/>
                  <a:pt x="2662" y="8015"/>
                  <a:pt x="2679" y="7987"/>
                </a:cubicBezTo>
              </a:path>
              <a:path w="2109" h="1291">
                <a:moveTo>
                  <a:pt x="2778" y="7665"/>
                </a:moveTo>
                <a:cubicBezTo>
                  <a:pt x="2778" y="7776"/>
                  <a:pt x="2748" y="7946"/>
                  <a:pt x="2803" y="8037"/>
                </a:cubicBezTo>
                <a:cubicBezTo>
                  <a:pt x="2803" y="7946"/>
                  <a:pt x="2813" y="7865"/>
                  <a:pt x="2828" y="7789"/>
                </a:cubicBezTo>
                <a:cubicBezTo>
                  <a:pt x="2842" y="7719"/>
                  <a:pt x="2846" y="7625"/>
                  <a:pt x="2877" y="7565"/>
                </a:cubicBezTo>
                <a:cubicBezTo>
                  <a:pt x="2907" y="7506"/>
                  <a:pt x="2995" y="7503"/>
                  <a:pt x="3051" y="7516"/>
                </a:cubicBezTo>
                <a:cubicBezTo>
                  <a:pt x="3111" y="7530"/>
                  <a:pt x="3146" y="7593"/>
                  <a:pt x="3175" y="7640"/>
                </a:cubicBezTo>
                <a:cubicBezTo>
                  <a:pt x="3226" y="7724"/>
                  <a:pt x="3225" y="7819"/>
                  <a:pt x="3225" y="7913"/>
                </a:cubicBezTo>
                <a:cubicBezTo>
                  <a:pt x="3225" y="7933"/>
                  <a:pt x="3211" y="8117"/>
                  <a:pt x="3249" y="8037"/>
                </a:cubicBezTo>
                <a:cubicBezTo>
                  <a:pt x="3249" y="8029"/>
                  <a:pt x="3249" y="8020"/>
                  <a:pt x="3249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Ink 6"/>
          <p:cNvSpPr/>
          <p:nvPr/>
        </p:nvSpPr>
        <p:spPr>
          <a:xfrm>
            <a:off x="1455840" y="2446200"/>
            <a:ext cx="1857240" cy="581040"/>
          </a:xfrm>
          <a:custGeom>
            <a:avLst/>
            <a:gdLst/>
            <a:ahLst/>
            <a:rect l="l" t="t" r="r" b="b"/>
            <a:pathLst>
              <a:path w="5161" h="1614">
                <a:moveTo>
                  <a:pt x="4068" y="6821"/>
                </a:moveTo>
                <a:cubicBezTo>
                  <a:pt x="4299" y="6821"/>
                  <a:pt x="4531" y="6821"/>
                  <a:pt x="4762" y="6821"/>
                </a:cubicBezTo>
              </a:path>
              <a:path w="5161" h="1614">
                <a:moveTo>
                  <a:pt x="4440" y="6821"/>
                </a:moveTo>
                <a:cubicBezTo>
                  <a:pt x="4440" y="6925"/>
                  <a:pt x="4433" y="7029"/>
                  <a:pt x="4415" y="7119"/>
                </a:cubicBezTo>
                <a:cubicBezTo>
                  <a:pt x="4401" y="7188"/>
                  <a:pt x="4408" y="7256"/>
                  <a:pt x="4390" y="7317"/>
                </a:cubicBezTo>
                <a:cubicBezTo>
                  <a:pt x="4390" y="7325"/>
                  <a:pt x="4390" y="7334"/>
                  <a:pt x="4390" y="7342"/>
                </a:cubicBezTo>
              </a:path>
              <a:path w="5161" h="1614">
                <a:moveTo>
                  <a:pt x="4614" y="6921"/>
                </a:moveTo>
                <a:cubicBezTo>
                  <a:pt x="4588" y="6989"/>
                  <a:pt x="4575" y="7071"/>
                  <a:pt x="4564" y="7144"/>
                </a:cubicBezTo>
                <a:cubicBezTo>
                  <a:pt x="4552" y="7225"/>
                  <a:pt x="4568" y="7299"/>
                  <a:pt x="4614" y="7367"/>
                </a:cubicBezTo>
                <a:cubicBezTo>
                  <a:pt x="4622" y="7375"/>
                  <a:pt x="4630" y="7384"/>
                  <a:pt x="4638" y="7392"/>
                </a:cubicBezTo>
              </a:path>
              <a:path w="5161" h="1614">
                <a:moveTo>
                  <a:pt x="4043" y="7441"/>
                </a:moveTo>
                <a:cubicBezTo>
                  <a:pt x="4162" y="7467"/>
                  <a:pt x="4267" y="7466"/>
                  <a:pt x="4390" y="7466"/>
                </a:cubicBezTo>
                <a:cubicBezTo>
                  <a:pt x="4522" y="7466"/>
                  <a:pt x="4655" y="7466"/>
                  <a:pt x="4787" y="7466"/>
                </a:cubicBezTo>
              </a:path>
              <a:path w="5161" h="1614">
                <a:moveTo>
                  <a:pt x="4490" y="7615"/>
                </a:moveTo>
                <a:cubicBezTo>
                  <a:pt x="4437" y="7720"/>
                  <a:pt x="4387" y="7842"/>
                  <a:pt x="4366" y="7962"/>
                </a:cubicBezTo>
                <a:cubicBezTo>
                  <a:pt x="4357" y="8011"/>
                  <a:pt x="4352" y="8123"/>
                  <a:pt x="4390" y="8161"/>
                </a:cubicBezTo>
                <a:cubicBezTo>
                  <a:pt x="4441" y="8212"/>
                  <a:pt x="4518" y="8186"/>
                  <a:pt x="4564" y="8161"/>
                </a:cubicBezTo>
                <a:cubicBezTo>
                  <a:pt x="4617" y="8133"/>
                  <a:pt x="4695" y="8099"/>
                  <a:pt x="4713" y="8037"/>
                </a:cubicBezTo>
                <a:cubicBezTo>
                  <a:pt x="4726" y="7994"/>
                  <a:pt x="4718" y="7904"/>
                  <a:pt x="4663" y="7888"/>
                </a:cubicBezTo>
                <a:cubicBezTo>
                  <a:pt x="4591" y="7867"/>
                  <a:pt x="4559" y="7917"/>
                  <a:pt x="4514" y="7962"/>
                </a:cubicBezTo>
                <a:cubicBezTo>
                  <a:pt x="4470" y="8006"/>
                  <a:pt x="4483" y="8085"/>
                  <a:pt x="4514" y="8136"/>
                </a:cubicBezTo>
                <a:cubicBezTo>
                  <a:pt x="4534" y="8168"/>
                  <a:pt x="4558" y="8178"/>
                  <a:pt x="4589" y="8186"/>
                </a:cubicBezTo>
              </a:path>
              <a:path w="5161" h="1614">
                <a:moveTo>
                  <a:pt x="5407" y="7392"/>
                </a:moveTo>
                <a:cubicBezTo>
                  <a:pt x="5407" y="7500"/>
                  <a:pt x="5429" y="7589"/>
                  <a:pt x="5432" y="7689"/>
                </a:cubicBezTo>
                <a:cubicBezTo>
                  <a:pt x="5435" y="7784"/>
                  <a:pt x="5457" y="7848"/>
                  <a:pt x="5457" y="7938"/>
                </a:cubicBezTo>
              </a:path>
              <a:path w="5161" h="1614">
                <a:moveTo>
                  <a:pt x="5209" y="7665"/>
                </a:moveTo>
                <a:cubicBezTo>
                  <a:pt x="5378" y="7665"/>
                  <a:pt x="5572" y="7693"/>
                  <a:pt x="5730" y="7640"/>
                </a:cubicBezTo>
              </a:path>
              <a:path w="5161" h="1614">
                <a:moveTo>
                  <a:pt x="6524" y="7218"/>
                </a:moveTo>
                <a:cubicBezTo>
                  <a:pt x="6505" y="7325"/>
                  <a:pt x="6499" y="7409"/>
                  <a:pt x="6499" y="7516"/>
                </a:cubicBezTo>
                <a:cubicBezTo>
                  <a:pt x="6499" y="7627"/>
                  <a:pt x="6489" y="7734"/>
                  <a:pt x="6474" y="7838"/>
                </a:cubicBezTo>
                <a:cubicBezTo>
                  <a:pt x="6460" y="7935"/>
                  <a:pt x="6524" y="8133"/>
                  <a:pt x="6449" y="8210"/>
                </a:cubicBezTo>
                <a:cubicBezTo>
                  <a:pt x="6449" y="8202"/>
                  <a:pt x="6449" y="8194"/>
                  <a:pt x="6449" y="8186"/>
                </a:cubicBezTo>
              </a:path>
              <a:path w="5161" h="1614">
                <a:moveTo>
                  <a:pt x="6052" y="7094"/>
                </a:moveTo>
                <a:cubicBezTo>
                  <a:pt x="6151" y="7055"/>
                  <a:pt x="6242" y="7024"/>
                  <a:pt x="6350" y="7020"/>
                </a:cubicBezTo>
                <a:cubicBezTo>
                  <a:pt x="6469" y="7016"/>
                  <a:pt x="6576" y="6995"/>
                  <a:pt x="6697" y="6995"/>
                </a:cubicBezTo>
                <a:cubicBezTo>
                  <a:pt x="6780" y="6995"/>
                  <a:pt x="6839" y="7003"/>
                  <a:pt x="6921" y="7020"/>
                </a:cubicBezTo>
              </a:path>
              <a:path w="5161" h="1614">
                <a:moveTo>
                  <a:pt x="7293" y="7689"/>
                </a:moveTo>
                <a:cubicBezTo>
                  <a:pt x="7335" y="7732"/>
                  <a:pt x="7320" y="7737"/>
                  <a:pt x="7367" y="7714"/>
                </a:cubicBezTo>
                <a:cubicBezTo>
                  <a:pt x="7358" y="7655"/>
                  <a:pt x="7330" y="7595"/>
                  <a:pt x="7293" y="7541"/>
                </a:cubicBezTo>
                <a:cubicBezTo>
                  <a:pt x="7240" y="7465"/>
                  <a:pt x="7163" y="7493"/>
                  <a:pt x="7094" y="7516"/>
                </a:cubicBezTo>
                <a:cubicBezTo>
                  <a:pt x="7020" y="7541"/>
                  <a:pt x="6966" y="7597"/>
                  <a:pt x="6921" y="7665"/>
                </a:cubicBezTo>
                <a:cubicBezTo>
                  <a:pt x="6876" y="7732"/>
                  <a:pt x="6871" y="7785"/>
                  <a:pt x="6871" y="7863"/>
                </a:cubicBezTo>
                <a:cubicBezTo>
                  <a:pt x="6871" y="7906"/>
                  <a:pt x="6860" y="8039"/>
                  <a:pt x="6921" y="8062"/>
                </a:cubicBezTo>
                <a:cubicBezTo>
                  <a:pt x="6978" y="8083"/>
                  <a:pt x="7082" y="8064"/>
                  <a:pt x="7119" y="8012"/>
                </a:cubicBezTo>
                <a:cubicBezTo>
                  <a:pt x="7152" y="7966"/>
                  <a:pt x="7205" y="7894"/>
                  <a:pt x="7218" y="7838"/>
                </a:cubicBezTo>
                <a:cubicBezTo>
                  <a:pt x="7231" y="7782"/>
                  <a:pt x="7214" y="7763"/>
                  <a:pt x="7243" y="7714"/>
                </a:cubicBezTo>
                <a:cubicBezTo>
                  <a:pt x="7200" y="7785"/>
                  <a:pt x="7239" y="7852"/>
                  <a:pt x="7243" y="7938"/>
                </a:cubicBezTo>
                <a:cubicBezTo>
                  <a:pt x="7245" y="7981"/>
                  <a:pt x="7258" y="8059"/>
                  <a:pt x="7293" y="8086"/>
                </a:cubicBezTo>
                <a:cubicBezTo>
                  <a:pt x="7376" y="8150"/>
                  <a:pt x="7381" y="8125"/>
                  <a:pt x="7466" y="8086"/>
                </a:cubicBezTo>
              </a:path>
              <a:path w="5161" h="1614">
                <a:moveTo>
                  <a:pt x="7615" y="7764"/>
                </a:moveTo>
                <a:cubicBezTo>
                  <a:pt x="7615" y="7899"/>
                  <a:pt x="7604" y="8031"/>
                  <a:pt x="7640" y="8161"/>
                </a:cubicBezTo>
                <a:cubicBezTo>
                  <a:pt x="7663" y="8100"/>
                  <a:pt x="7685" y="8050"/>
                  <a:pt x="7689" y="7987"/>
                </a:cubicBezTo>
                <a:cubicBezTo>
                  <a:pt x="7693" y="7919"/>
                  <a:pt x="7711" y="7844"/>
                  <a:pt x="7739" y="7789"/>
                </a:cubicBezTo>
                <a:cubicBezTo>
                  <a:pt x="7777" y="7713"/>
                  <a:pt x="7785" y="7645"/>
                  <a:pt x="7888" y="7665"/>
                </a:cubicBezTo>
                <a:cubicBezTo>
                  <a:pt x="7977" y="7682"/>
                  <a:pt x="7966" y="7750"/>
                  <a:pt x="7987" y="7813"/>
                </a:cubicBezTo>
                <a:cubicBezTo>
                  <a:pt x="8011" y="7884"/>
                  <a:pt x="8012" y="7971"/>
                  <a:pt x="8037" y="8037"/>
                </a:cubicBezTo>
                <a:cubicBezTo>
                  <a:pt x="8056" y="8089"/>
                  <a:pt x="8054" y="8157"/>
                  <a:pt x="8086" y="8210"/>
                </a:cubicBezTo>
                <a:cubicBezTo>
                  <a:pt x="8129" y="8280"/>
                  <a:pt x="8132" y="8249"/>
                  <a:pt x="8186" y="8210"/>
                </a:cubicBezTo>
              </a:path>
              <a:path w="5161" h="1614">
                <a:moveTo>
                  <a:pt x="8384" y="6846"/>
                </a:moveTo>
                <a:cubicBezTo>
                  <a:pt x="8459" y="6808"/>
                  <a:pt x="8499" y="6796"/>
                  <a:pt x="8582" y="6796"/>
                </a:cubicBezTo>
                <a:cubicBezTo>
                  <a:pt x="8706" y="6796"/>
                  <a:pt x="8830" y="6796"/>
                  <a:pt x="8954" y="6796"/>
                </a:cubicBezTo>
              </a:path>
              <a:path w="5161" h="1614">
                <a:moveTo>
                  <a:pt x="8682" y="6821"/>
                </a:moveTo>
                <a:cubicBezTo>
                  <a:pt x="8654" y="6913"/>
                  <a:pt x="8632" y="6952"/>
                  <a:pt x="8632" y="7045"/>
                </a:cubicBezTo>
                <a:cubicBezTo>
                  <a:pt x="8632" y="7142"/>
                  <a:pt x="8624" y="7234"/>
                  <a:pt x="8607" y="7317"/>
                </a:cubicBezTo>
                <a:cubicBezTo>
                  <a:pt x="8607" y="7362"/>
                  <a:pt x="8604" y="7375"/>
                  <a:pt x="8632" y="7392"/>
                </a:cubicBezTo>
              </a:path>
              <a:path w="5161" h="1614">
                <a:moveTo>
                  <a:pt x="8880" y="6921"/>
                </a:moveTo>
                <a:cubicBezTo>
                  <a:pt x="8871" y="6991"/>
                  <a:pt x="8855" y="7046"/>
                  <a:pt x="8855" y="7119"/>
                </a:cubicBezTo>
                <a:cubicBezTo>
                  <a:pt x="8855" y="7215"/>
                  <a:pt x="8859" y="7260"/>
                  <a:pt x="8905" y="7342"/>
                </a:cubicBezTo>
                <a:cubicBezTo>
                  <a:pt x="8929" y="7390"/>
                  <a:pt x="8937" y="7404"/>
                  <a:pt x="8930" y="7441"/>
                </a:cubicBezTo>
              </a:path>
              <a:path w="5161" h="1614">
                <a:moveTo>
                  <a:pt x="8458" y="7541"/>
                </a:moveTo>
                <a:cubicBezTo>
                  <a:pt x="8547" y="7541"/>
                  <a:pt x="8621" y="7555"/>
                  <a:pt x="8706" y="7565"/>
                </a:cubicBezTo>
                <a:cubicBezTo>
                  <a:pt x="8804" y="7576"/>
                  <a:pt x="8906" y="7580"/>
                  <a:pt x="9004" y="7590"/>
                </a:cubicBezTo>
                <a:cubicBezTo>
                  <a:pt x="9062" y="7590"/>
                  <a:pt x="9070" y="7590"/>
                  <a:pt x="9103" y="7590"/>
                </a:cubicBezTo>
              </a:path>
              <a:path w="5161" h="1614">
                <a:moveTo>
                  <a:pt x="8880" y="7714"/>
                </a:moveTo>
                <a:cubicBezTo>
                  <a:pt x="8830" y="7785"/>
                  <a:pt x="8813" y="7824"/>
                  <a:pt x="8781" y="7888"/>
                </a:cubicBezTo>
                <a:cubicBezTo>
                  <a:pt x="8759" y="7932"/>
                  <a:pt x="8727" y="7995"/>
                  <a:pt x="8781" y="8037"/>
                </a:cubicBezTo>
                <a:cubicBezTo>
                  <a:pt x="8841" y="8084"/>
                  <a:pt x="8955" y="8103"/>
                  <a:pt x="9029" y="8086"/>
                </a:cubicBezTo>
                <a:cubicBezTo>
                  <a:pt x="9077" y="8063"/>
                  <a:pt x="9092" y="8055"/>
                  <a:pt x="9128" y="8062"/>
                </a:cubicBezTo>
              </a:path>
              <a:path w="5161" h="1614">
                <a:moveTo>
                  <a:pt x="9203" y="7764"/>
                </a:moveTo>
                <a:cubicBezTo>
                  <a:pt x="9150" y="7829"/>
                  <a:pt x="9147" y="7885"/>
                  <a:pt x="9128" y="7962"/>
                </a:cubicBezTo>
                <a:cubicBezTo>
                  <a:pt x="9109" y="8038"/>
                  <a:pt x="9083" y="8109"/>
                  <a:pt x="9079" y="8186"/>
                </a:cubicBezTo>
                <a:cubicBezTo>
                  <a:pt x="9075" y="8260"/>
                  <a:pt x="9079" y="8335"/>
                  <a:pt x="9079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Ink 7"/>
          <p:cNvSpPr/>
          <p:nvPr/>
        </p:nvSpPr>
        <p:spPr>
          <a:xfrm>
            <a:off x="3670200" y="3214800"/>
            <a:ext cx="1350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10195" y="8930"/>
                </a:moveTo>
                <a:cubicBezTo>
                  <a:pt x="10289" y="8938"/>
                  <a:pt x="10378" y="8952"/>
                  <a:pt x="10468" y="8979"/>
                </a:cubicBezTo>
              </a:path>
              <a:path w="373" h="323">
                <a:moveTo>
                  <a:pt x="10294" y="9203"/>
                </a:moveTo>
                <a:cubicBezTo>
                  <a:pt x="10409" y="9243"/>
                  <a:pt x="10453" y="9252"/>
                  <a:pt x="10567" y="92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Ink 8"/>
          <p:cNvSpPr/>
          <p:nvPr/>
        </p:nvSpPr>
        <p:spPr>
          <a:xfrm>
            <a:off x="4224240" y="2562120"/>
            <a:ext cx="339840" cy="617760"/>
          </a:xfrm>
          <a:custGeom>
            <a:avLst/>
            <a:gdLst/>
            <a:ahLst/>
            <a:rect l="l" t="t" r="r" b="b"/>
            <a:pathLst>
              <a:path w="943" h="1712">
                <a:moveTo>
                  <a:pt x="11931" y="7417"/>
                </a:moveTo>
                <a:cubicBezTo>
                  <a:pt x="11931" y="7514"/>
                  <a:pt x="11931" y="7895"/>
                  <a:pt x="11931" y="7813"/>
                </a:cubicBezTo>
                <a:cubicBezTo>
                  <a:pt x="11931" y="7699"/>
                  <a:pt x="11920" y="7597"/>
                  <a:pt x="11906" y="7491"/>
                </a:cubicBezTo>
                <a:cubicBezTo>
                  <a:pt x="11898" y="7427"/>
                  <a:pt x="11856" y="7308"/>
                  <a:pt x="11881" y="7243"/>
                </a:cubicBezTo>
                <a:cubicBezTo>
                  <a:pt x="11890" y="7219"/>
                  <a:pt x="12022" y="7152"/>
                  <a:pt x="12055" y="7144"/>
                </a:cubicBezTo>
                <a:cubicBezTo>
                  <a:pt x="12123" y="7128"/>
                  <a:pt x="12212" y="7130"/>
                  <a:pt x="12278" y="7119"/>
                </a:cubicBezTo>
                <a:cubicBezTo>
                  <a:pt x="12370" y="7104"/>
                  <a:pt x="12474" y="7123"/>
                  <a:pt x="12551" y="7144"/>
                </a:cubicBezTo>
                <a:cubicBezTo>
                  <a:pt x="12559" y="7144"/>
                  <a:pt x="12568" y="7144"/>
                  <a:pt x="12576" y="7144"/>
                </a:cubicBezTo>
              </a:path>
              <a:path w="943" h="1712">
                <a:moveTo>
                  <a:pt x="12229" y="7367"/>
                </a:moveTo>
                <a:cubicBezTo>
                  <a:pt x="12263" y="7333"/>
                  <a:pt x="12328" y="7286"/>
                  <a:pt x="12378" y="7293"/>
                </a:cubicBezTo>
                <a:cubicBezTo>
                  <a:pt x="12452" y="7304"/>
                  <a:pt x="12490" y="7400"/>
                  <a:pt x="12477" y="7466"/>
                </a:cubicBezTo>
                <a:cubicBezTo>
                  <a:pt x="12465" y="7526"/>
                  <a:pt x="12407" y="7544"/>
                  <a:pt x="12378" y="7590"/>
                </a:cubicBezTo>
                <a:cubicBezTo>
                  <a:pt x="12339" y="7651"/>
                  <a:pt x="12300" y="7655"/>
                  <a:pt x="12229" y="7665"/>
                </a:cubicBezTo>
                <a:cubicBezTo>
                  <a:pt x="12298" y="7665"/>
                  <a:pt x="12345" y="7671"/>
                  <a:pt x="12402" y="7689"/>
                </a:cubicBezTo>
                <a:cubicBezTo>
                  <a:pt x="12495" y="7719"/>
                  <a:pt x="12545" y="7713"/>
                  <a:pt x="12551" y="7813"/>
                </a:cubicBezTo>
                <a:cubicBezTo>
                  <a:pt x="12556" y="7904"/>
                  <a:pt x="12453" y="7909"/>
                  <a:pt x="12378" y="7913"/>
                </a:cubicBezTo>
                <a:cubicBezTo>
                  <a:pt x="12312" y="7916"/>
                  <a:pt x="12245" y="7913"/>
                  <a:pt x="12179" y="7913"/>
                </a:cubicBezTo>
              </a:path>
              <a:path w="943" h="1712">
                <a:moveTo>
                  <a:pt x="11733" y="7987"/>
                </a:moveTo>
                <a:cubicBezTo>
                  <a:pt x="11807" y="7987"/>
                  <a:pt x="11861" y="7966"/>
                  <a:pt x="11931" y="7962"/>
                </a:cubicBezTo>
                <a:cubicBezTo>
                  <a:pt x="12076" y="7954"/>
                  <a:pt x="12210" y="7973"/>
                  <a:pt x="12353" y="7987"/>
                </a:cubicBezTo>
                <a:cubicBezTo>
                  <a:pt x="12448" y="7997"/>
                  <a:pt x="12546" y="7977"/>
                  <a:pt x="12626" y="7962"/>
                </a:cubicBezTo>
                <a:cubicBezTo>
                  <a:pt x="12642" y="7962"/>
                  <a:pt x="12659" y="7962"/>
                  <a:pt x="12675" y="7962"/>
                </a:cubicBezTo>
              </a:path>
              <a:path w="943" h="1712">
                <a:moveTo>
                  <a:pt x="12204" y="8235"/>
                </a:moveTo>
                <a:cubicBezTo>
                  <a:pt x="12183" y="8153"/>
                  <a:pt x="12259" y="8205"/>
                  <a:pt x="12328" y="8186"/>
                </a:cubicBezTo>
                <a:cubicBezTo>
                  <a:pt x="12393" y="8168"/>
                  <a:pt x="12423" y="8186"/>
                  <a:pt x="12502" y="8186"/>
                </a:cubicBezTo>
                <a:cubicBezTo>
                  <a:pt x="12518" y="8243"/>
                  <a:pt x="12515" y="8290"/>
                  <a:pt x="12452" y="8334"/>
                </a:cubicBezTo>
                <a:cubicBezTo>
                  <a:pt x="12405" y="8367"/>
                  <a:pt x="12335" y="8421"/>
                  <a:pt x="12278" y="8434"/>
                </a:cubicBezTo>
                <a:cubicBezTo>
                  <a:pt x="12156" y="8461"/>
                  <a:pt x="12330" y="8401"/>
                  <a:pt x="12353" y="8409"/>
                </a:cubicBezTo>
                <a:cubicBezTo>
                  <a:pt x="12388" y="8421"/>
                  <a:pt x="12473" y="8449"/>
                  <a:pt x="12502" y="8483"/>
                </a:cubicBezTo>
                <a:cubicBezTo>
                  <a:pt x="12559" y="8550"/>
                  <a:pt x="12554" y="8605"/>
                  <a:pt x="12576" y="8682"/>
                </a:cubicBezTo>
                <a:cubicBezTo>
                  <a:pt x="12589" y="8728"/>
                  <a:pt x="12599" y="8809"/>
                  <a:pt x="12526" y="8830"/>
                </a:cubicBezTo>
                <a:cubicBezTo>
                  <a:pt x="12426" y="8858"/>
                  <a:pt x="12298" y="8820"/>
                  <a:pt x="12204" y="8806"/>
                </a:cubicBezTo>
                <a:cubicBezTo>
                  <a:pt x="12142" y="8797"/>
                  <a:pt x="12105" y="8777"/>
                  <a:pt x="12055" y="8731"/>
                </a:cubicBezTo>
                <a:cubicBezTo>
                  <a:pt x="12027" y="8703"/>
                  <a:pt x="12018" y="8690"/>
                  <a:pt x="12030" y="86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Ink 9"/>
          <p:cNvSpPr/>
          <p:nvPr/>
        </p:nvSpPr>
        <p:spPr>
          <a:xfrm>
            <a:off x="4759200" y="2786040"/>
            <a:ext cx="12564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3395" y="7739"/>
                </a:moveTo>
                <a:cubicBezTo>
                  <a:pt x="13395" y="7830"/>
                  <a:pt x="13409" y="7900"/>
                  <a:pt x="13419" y="7987"/>
                </a:cubicBezTo>
                <a:cubicBezTo>
                  <a:pt x="13425" y="8040"/>
                  <a:pt x="13424" y="8135"/>
                  <a:pt x="13444" y="8186"/>
                </a:cubicBezTo>
                <a:cubicBezTo>
                  <a:pt x="13467" y="8208"/>
                  <a:pt x="13475" y="8213"/>
                  <a:pt x="13469" y="8235"/>
                </a:cubicBezTo>
              </a:path>
              <a:path w="348" h="497">
                <a:moveTo>
                  <a:pt x="13221" y="8037"/>
                </a:moveTo>
                <a:cubicBezTo>
                  <a:pt x="13337" y="8037"/>
                  <a:pt x="13452" y="8037"/>
                  <a:pt x="13568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Ink 10"/>
          <p:cNvSpPr/>
          <p:nvPr/>
        </p:nvSpPr>
        <p:spPr>
          <a:xfrm>
            <a:off x="5241960" y="2714760"/>
            <a:ext cx="36360" cy="393480"/>
          </a:xfrm>
          <a:custGeom>
            <a:avLst/>
            <a:gdLst/>
            <a:ahLst/>
            <a:rect l="l" t="t" r="r" b="b"/>
            <a:pathLst>
              <a:path w="101" h="1092">
                <a:moveTo>
                  <a:pt x="14560" y="7541"/>
                </a:moveTo>
                <a:cubicBezTo>
                  <a:pt x="14586" y="7617"/>
                  <a:pt x="14585" y="7682"/>
                  <a:pt x="14585" y="7764"/>
                </a:cubicBezTo>
                <a:cubicBezTo>
                  <a:pt x="14585" y="7852"/>
                  <a:pt x="14601" y="7928"/>
                  <a:pt x="14610" y="8012"/>
                </a:cubicBezTo>
                <a:cubicBezTo>
                  <a:pt x="14620" y="8098"/>
                  <a:pt x="14635" y="8171"/>
                  <a:pt x="14635" y="8260"/>
                </a:cubicBezTo>
                <a:cubicBezTo>
                  <a:pt x="14635" y="8382"/>
                  <a:pt x="14633" y="8493"/>
                  <a:pt x="14660" y="8607"/>
                </a:cubicBezTo>
                <a:cubicBezTo>
                  <a:pt x="14660" y="8615"/>
                  <a:pt x="14660" y="8624"/>
                  <a:pt x="14660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Ink 11"/>
          <p:cNvSpPr/>
          <p:nvPr/>
        </p:nvSpPr>
        <p:spPr>
          <a:xfrm>
            <a:off x="6116760" y="2490840"/>
            <a:ext cx="71280" cy="573120"/>
          </a:xfrm>
          <a:custGeom>
            <a:avLst/>
            <a:gdLst/>
            <a:ahLst/>
            <a:rect l="l" t="t" r="r" b="b"/>
            <a:pathLst>
              <a:path w="200" h="1588">
                <a:moveTo>
                  <a:pt x="17190" y="6921"/>
                </a:moveTo>
                <a:cubicBezTo>
                  <a:pt x="17133" y="7018"/>
                  <a:pt x="17102" y="7110"/>
                  <a:pt x="17066" y="7218"/>
                </a:cubicBezTo>
                <a:cubicBezTo>
                  <a:pt x="17024" y="7347"/>
                  <a:pt x="17002" y="7482"/>
                  <a:pt x="16991" y="7615"/>
                </a:cubicBezTo>
                <a:cubicBezTo>
                  <a:pt x="16976" y="7802"/>
                  <a:pt x="16969" y="8027"/>
                  <a:pt x="17016" y="8210"/>
                </a:cubicBezTo>
                <a:cubicBezTo>
                  <a:pt x="17042" y="8310"/>
                  <a:pt x="17082" y="8410"/>
                  <a:pt x="17115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Ink 12"/>
          <p:cNvSpPr/>
          <p:nvPr/>
        </p:nvSpPr>
        <p:spPr>
          <a:xfrm>
            <a:off x="7027920" y="2340000"/>
            <a:ext cx="1098360" cy="776160"/>
          </a:xfrm>
          <a:custGeom>
            <a:avLst/>
            <a:gdLst/>
            <a:ahLst/>
            <a:rect l="l" t="t" r="r" b="b"/>
            <a:pathLst>
              <a:path w="3052" h="2159">
                <a:moveTo>
                  <a:pt x="20340" y="6896"/>
                </a:moveTo>
                <a:cubicBezTo>
                  <a:pt x="20293" y="6943"/>
                  <a:pt x="20271" y="6985"/>
                  <a:pt x="20241" y="7045"/>
                </a:cubicBezTo>
                <a:cubicBezTo>
                  <a:pt x="20203" y="7121"/>
                  <a:pt x="20172" y="7186"/>
                  <a:pt x="20141" y="7268"/>
                </a:cubicBezTo>
                <a:cubicBezTo>
                  <a:pt x="20100" y="7376"/>
                  <a:pt x="20067" y="7455"/>
                  <a:pt x="20042" y="7565"/>
                </a:cubicBezTo>
                <a:cubicBezTo>
                  <a:pt x="20020" y="7665"/>
                  <a:pt x="19976" y="7762"/>
                  <a:pt x="19968" y="7863"/>
                </a:cubicBezTo>
                <a:cubicBezTo>
                  <a:pt x="19960" y="7959"/>
                  <a:pt x="19964" y="8072"/>
                  <a:pt x="19993" y="8161"/>
                </a:cubicBezTo>
                <a:cubicBezTo>
                  <a:pt x="20015" y="8230"/>
                  <a:pt x="20030" y="8253"/>
                  <a:pt x="20067" y="8310"/>
                </a:cubicBezTo>
                <a:cubicBezTo>
                  <a:pt x="20115" y="8383"/>
                  <a:pt x="20084" y="8383"/>
                  <a:pt x="20166" y="8359"/>
                </a:cubicBezTo>
              </a:path>
              <a:path w="3052" h="2159">
                <a:moveTo>
                  <a:pt x="20588" y="7193"/>
                </a:moveTo>
                <a:cubicBezTo>
                  <a:pt x="20616" y="7277"/>
                  <a:pt x="20613" y="7350"/>
                  <a:pt x="20613" y="7441"/>
                </a:cubicBezTo>
                <a:cubicBezTo>
                  <a:pt x="20613" y="7525"/>
                  <a:pt x="20638" y="7602"/>
                  <a:pt x="20638" y="7689"/>
                </a:cubicBezTo>
                <a:cubicBezTo>
                  <a:pt x="20638" y="7841"/>
                  <a:pt x="20639" y="7998"/>
                  <a:pt x="20662" y="8136"/>
                </a:cubicBezTo>
                <a:cubicBezTo>
                  <a:pt x="20672" y="8197"/>
                  <a:pt x="20622" y="8271"/>
                  <a:pt x="20687" y="8186"/>
                </a:cubicBezTo>
              </a:path>
              <a:path w="3052" h="2159">
                <a:moveTo>
                  <a:pt x="21109" y="7367"/>
                </a:moveTo>
                <a:cubicBezTo>
                  <a:pt x="21118" y="7444"/>
                  <a:pt x="21134" y="7511"/>
                  <a:pt x="21134" y="7590"/>
                </a:cubicBezTo>
                <a:cubicBezTo>
                  <a:pt x="21134" y="7670"/>
                  <a:pt x="21149" y="7748"/>
                  <a:pt x="21158" y="7813"/>
                </a:cubicBezTo>
                <a:cubicBezTo>
                  <a:pt x="21158" y="7880"/>
                  <a:pt x="21158" y="7896"/>
                  <a:pt x="21158" y="7938"/>
                </a:cubicBezTo>
              </a:path>
              <a:path w="3052" h="2159">
                <a:moveTo>
                  <a:pt x="20985" y="7665"/>
                </a:moveTo>
                <a:cubicBezTo>
                  <a:pt x="21047" y="7634"/>
                  <a:pt x="21109" y="7640"/>
                  <a:pt x="21183" y="7640"/>
                </a:cubicBezTo>
                <a:cubicBezTo>
                  <a:pt x="21270" y="7640"/>
                  <a:pt x="21329" y="7626"/>
                  <a:pt x="21406" y="7615"/>
                </a:cubicBezTo>
              </a:path>
              <a:path w="3052" h="2159">
                <a:moveTo>
                  <a:pt x="21580" y="7094"/>
                </a:moveTo>
                <a:cubicBezTo>
                  <a:pt x="21580" y="7161"/>
                  <a:pt x="21594" y="7214"/>
                  <a:pt x="21605" y="7268"/>
                </a:cubicBezTo>
                <a:cubicBezTo>
                  <a:pt x="21622" y="7352"/>
                  <a:pt x="21605" y="7455"/>
                  <a:pt x="21605" y="7541"/>
                </a:cubicBezTo>
                <a:cubicBezTo>
                  <a:pt x="21577" y="7457"/>
                  <a:pt x="21580" y="7384"/>
                  <a:pt x="21580" y="7293"/>
                </a:cubicBezTo>
                <a:cubicBezTo>
                  <a:pt x="21580" y="7176"/>
                  <a:pt x="21564" y="7046"/>
                  <a:pt x="21605" y="6945"/>
                </a:cubicBezTo>
                <a:cubicBezTo>
                  <a:pt x="21634" y="6874"/>
                  <a:pt x="21667" y="6747"/>
                  <a:pt x="21754" y="6722"/>
                </a:cubicBezTo>
                <a:cubicBezTo>
                  <a:pt x="21793" y="6711"/>
                  <a:pt x="21907" y="6680"/>
                  <a:pt x="21952" y="6697"/>
                </a:cubicBezTo>
                <a:cubicBezTo>
                  <a:pt x="21960" y="6705"/>
                  <a:pt x="21969" y="6714"/>
                  <a:pt x="21977" y="6722"/>
                </a:cubicBezTo>
              </a:path>
              <a:path w="3052" h="2159">
                <a:moveTo>
                  <a:pt x="21779" y="6921"/>
                </a:moveTo>
                <a:cubicBezTo>
                  <a:pt x="21836" y="6886"/>
                  <a:pt x="21880" y="6875"/>
                  <a:pt x="21952" y="6871"/>
                </a:cubicBezTo>
                <a:cubicBezTo>
                  <a:pt x="22014" y="6868"/>
                  <a:pt x="22053" y="6908"/>
                  <a:pt x="22101" y="6945"/>
                </a:cubicBezTo>
                <a:cubicBezTo>
                  <a:pt x="22067" y="6988"/>
                  <a:pt x="22042" y="7030"/>
                  <a:pt x="22002" y="7069"/>
                </a:cubicBezTo>
                <a:cubicBezTo>
                  <a:pt x="21972" y="7099"/>
                  <a:pt x="21958" y="7110"/>
                  <a:pt x="21927" y="7119"/>
                </a:cubicBezTo>
                <a:cubicBezTo>
                  <a:pt x="22003" y="7119"/>
                  <a:pt x="22042" y="7117"/>
                  <a:pt x="22101" y="7169"/>
                </a:cubicBezTo>
                <a:cubicBezTo>
                  <a:pt x="22145" y="7208"/>
                  <a:pt x="22188" y="7240"/>
                  <a:pt x="22151" y="7293"/>
                </a:cubicBezTo>
                <a:cubicBezTo>
                  <a:pt x="22121" y="7336"/>
                  <a:pt x="22072" y="7368"/>
                  <a:pt x="22027" y="7392"/>
                </a:cubicBezTo>
                <a:cubicBezTo>
                  <a:pt x="21962" y="7427"/>
                  <a:pt x="21900" y="7454"/>
                  <a:pt x="21828" y="7466"/>
                </a:cubicBezTo>
              </a:path>
              <a:path w="3052" h="2159">
                <a:moveTo>
                  <a:pt x="21654" y="7565"/>
                </a:moveTo>
                <a:cubicBezTo>
                  <a:pt x="21821" y="7565"/>
                  <a:pt x="21999" y="7571"/>
                  <a:pt x="22151" y="7541"/>
                </a:cubicBezTo>
                <a:cubicBezTo>
                  <a:pt x="22196" y="7532"/>
                  <a:pt x="22253" y="7541"/>
                  <a:pt x="22299" y="7541"/>
                </a:cubicBezTo>
              </a:path>
              <a:path w="3052" h="2159">
                <a:moveTo>
                  <a:pt x="21903" y="7789"/>
                </a:moveTo>
                <a:cubicBezTo>
                  <a:pt x="21988" y="7789"/>
                  <a:pt x="22110" y="7761"/>
                  <a:pt x="22175" y="7813"/>
                </a:cubicBezTo>
                <a:cubicBezTo>
                  <a:pt x="22229" y="7856"/>
                  <a:pt x="22160" y="7904"/>
                  <a:pt x="22126" y="7938"/>
                </a:cubicBezTo>
                <a:cubicBezTo>
                  <a:pt x="22066" y="7997"/>
                  <a:pt x="22017" y="8018"/>
                  <a:pt x="22002" y="7987"/>
                </a:cubicBezTo>
                <a:cubicBezTo>
                  <a:pt x="22066" y="7987"/>
                  <a:pt x="22092" y="7990"/>
                  <a:pt x="22151" y="8012"/>
                </a:cubicBezTo>
                <a:cubicBezTo>
                  <a:pt x="22172" y="8096"/>
                  <a:pt x="22172" y="8248"/>
                  <a:pt x="22051" y="8334"/>
                </a:cubicBezTo>
                <a:cubicBezTo>
                  <a:pt x="22004" y="8367"/>
                  <a:pt x="21940" y="8408"/>
                  <a:pt x="21878" y="8384"/>
                </a:cubicBezTo>
                <a:cubicBezTo>
                  <a:pt x="21870" y="8376"/>
                  <a:pt x="21861" y="8367"/>
                  <a:pt x="21853" y="8359"/>
                </a:cubicBezTo>
              </a:path>
              <a:path w="3052" h="2159">
                <a:moveTo>
                  <a:pt x="22051" y="6499"/>
                </a:moveTo>
                <a:cubicBezTo>
                  <a:pt x="22117" y="6540"/>
                  <a:pt x="22137" y="6555"/>
                  <a:pt x="22175" y="6623"/>
                </a:cubicBezTo>
                <a:cubicBezTo>
                  <a:pt x="22235" y="6731"/>
                  <a:pt x="22322" y="6805"/>
                  <a:pt x="22374" y="6921"/>
                </a:cubicBezTo>
                <a:cubicBezTo>
                  <a:pt x="22432" y="7051"/>
                  <a:pt x="22530" y="7170"/>
                  <a:pt x="22547" y="7317"/>
                </a:cubicBezTo>
                <a:cubicBezTo>
                  <a:pt x="22562" y="7443"/>
                  <a:pt x="22591" y="7587"/>
                  <a:pt x="22572" y="7714"/>
                </a:cubicBezTo>
                <a:cubicBezTo>
                  <a:pt x="22547" y="7883"/>
                  <a:pt x="22515" y="8017"/>
                  <a:pt x="22423" y="8161"/>
                </a:cubicBezTo>
                <a:cubicBezTo>
                  <a:pt x="22359" y="8260"/>
                  <a:pt x="22294" y="8360"/>
                  <a:pt x="22200" y="8434"/>
                </a:cubicBezTo>
                <a:cubicBezTo>
                  <a:pt x="22175" y="8450"/>
                  <a:pt x="22151" y="8467"/>
                  <a:pt x="22126" y="8483"/>
                </a:cubicBezTo>
              </a:path>
              <a:path w="3052" h="2159">
                <a:moveTo>
                  <a:pt x="19546" y="6772"/>
                </a:moveTo>
                <a:cubicBezTo>
                  <a:pt x="19579" y="6861"/>
                  <a:pt x="19634" y="6912"/>
                  <a:pt x="19670" y="6995"/>
                </a:cubicBezTo>
                <a:cubicBezTo>
                  <a:pt x="19710" y="7086"/>
                  <a:pt x="19746" y="7182"/>
                  <a:pt x="19794" y="7268"/>
                </a:cubicBezTo>
                <a:cubicBezTo>
                  <a:pt x="19967" y="7578"/>
                  <a:pt x="19870" y="7881"/>
                  <a:pt x="19794" y="8235"/>
                </a:cubicBezTo>
                <a:cubicBezTo>
                  <a:pt x="19767" y="8359"/>
                  <a:pt x="19661" y="8512"/>
                  <a:pt x="19571" y="8607"/>
                </a:cubicBezTo>
                <a:cubicBezTo>
                  <a:pt x="19554" y="8624"/>
                  <a:pt x="19538" y="8640"/>
                  <a:pt x="19521" y="86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Ink 13"/>
          <p:cNvSpPr/>
          <p:nvPr/>
        </p:nvSpPr>
        <p:spPr>
          <a:xfrm>
            <a:off x="884160" y="3268800"/>
            <a:ext cx="2598840" cy="615960"/>
          </a:xfrm>
          <a:custGeom>
            <a:avLst/>
            <a:gdLst/>
            <a:ahLst/>
            <a:rect l="l" t="t" r="r" b="b"/>
            <a:pathLst>
              <a:path w="7219" h="1712">
                <a:moveTo>
                  <a:pt x="2456" y="9128"/>
                </a:moveTo>
                <a:cubicBezTo>
                  <a:pt x="2465" y="9192"/>
                  <a:pt x="2480" y="9231"/>
                  <a:pt x="2480" y="9302"/>
                </a:cubicBezTo>
                <a:cubicBezTo>
                  <a:pt x="2480" y="9379"/>
                  <a:pt x="2505" y="9443"/>
                  <a:pt x="2505" y="9525"/>
                </a:cubicBezTo>
                <a:cubicBezTo>
                  <a:pt x="2505" y="9614"/>
                  <a:pt x="2517" y="9690"/>
                  <a:pt x="2530" y="9773"/>
                </a:cubicBezTo>
                <a:cubicBezTo>
                  <a:pt x="2542" y="9848"/>
                  <a:pt x="2553" y="10089"/>
                  <a:pt x="2505" y="10120"/>
                </a:cubicBezTo>
              </a:path>
              <a:path w="7219" h="1712">
                <a:moveTo>
                  <a:pt x="2729" y="9798"/>
                </a:moveTo>
                <a:cubicBezTo>
                  <a:pt x="2823" y="9810"/>
                  <a:pt x="2901" y="9823"/>
                  <a:pt x="3001" y="9823"/>
                </a:cubicBezTo>
                <a:cubicBezTo>
                  <a:pt x="3082" y="9823"/>
                  <a:pt x="3148" y="9843"/>
                  <a:pt x="3225" y="9847"/>
                </a:cubicBezTo>
                <a:cubicBezTo>
                  <a:pt x="3279" y="9850"/>
                  <a:pt x="3302" y="9855"/>
                  <a:pt x="3324" y="9823"/>
                </a:cubicBezTo>
              </a:path>
              <a:path w="7219" h="1712">
                <a:moveTo>
                  <a:pt x="4142" y="9376"/>
                </a:moveTo>
                <a:cubicBezTo>
                  <a:pt x="4150" y="9457"/>
                  <a:pt x="4167" y="9512"/>
                  <a:pt x="4167" y="9599"/>
                </a:cubicBezTo>
                <a:cubicBezTo>
                  <a:pt x="4167" y="9687"/>
                  <a:pt x="4192" y="9756"/>
                  <a:pt x="4192" y="9847"/>
                </a:cubicBezTo>
                <a:cubicBezTo>
                  <a:pt x="4192" y="9937"/>
                  <a:pt x="4190" y="10035"/>
                  <a:pt x="4217" y="10120"/>
                </a:cubicBezTo>
                <a:cubicBezTo>
                  <a:pt x="4225" y="10137"/>
                  <a:pt x="4234" y="10153"/>
                  <a:pt x="4242" y="10170"/>
                </a:cubicBezTo>
              </a:path>
              <a:path w="7219" h="1712">
                <a:moveTo>
                  <a:pt x="3919" y="9723"/>
                </a:moveTo>
                <a:cubicBezTo>
                  <a:pt x="3991" y="9733"/>
                  <a:pt x="4065" y="9734"/>
                  <a:pt x="4142" y="9748"/>
                </a:cubicBezTo>
                <a:cubicBezTo>
                  <a:pt x="4232" y="9765"/>
                  <a:pt x="4326" y="9756"/>
                  <a:pt x="4415" y="9773"/>
                </a:cubicBezTo>
                <a:cubicBezTo>
                  <a:pt x="4496" y="9788"/>
                  <a:pt x="4555" y="9798"/>
                  <a:pt x="4638" y="9798"/>
                </a:cubicBezTo>
                <a:cubicBezTo>
                  <a:pt x="4688" y="9798"/>
                  <a:pt x="4705" y="9798"/>
                  <a:pt x="4738" y="9798"/>
                </a:cubicBezTo>
                <a:cubicBezTo>
                  <a:pt x="4691" y="9845"/>
                  <a:pt x="4606" y="9900"/>
                  <a:pt x="4589" y="9971"/>
                </a:cubicBezTo>
                <a:cubicBezTo>
                  <a:pt x="4574" y="10036"/>
                  <a:pt x="4579" y="10138"/>
                  <a:pt x="4614" y="10195"/>
                </a:cubicBezTo>
                <a:cubicBezTo>
                  <a:pt x="4646" y="10249"/>
                  <a:pt x="4692" y="10260"/>
                  <a:pt x="4738" y="10220"/>
                </a:cubicBezTo>
                <a:cubicBezTo>
                  <a:pt x="4802" y="10164"/>
                  <a:pt x="4833" y="10125"/>
                  <a:pt x="4862" y="10046"/>
                </a:cubicBezTo>
                <a:cubicBezTo>
                  <a:pt x="4887" y="9976"/>
                  <a:pt x="4902" y="9962"/>
                  <a:pt x="4911" y="9897"/>
                </a:cubicBezTo>
                <a:cubicBezTo>
                  <a:pt x="4894" y="9950"/>
                  <a:pt x="4896" y="10042"/>
                  <a:pt x="4936" y="10096"/>
                </a:cubicBezTo>
                <a:cubicBezTo>
                  <a:pt x="4969" y="10140"/>
                  <a:pt x="4957" y="10185"/>
                  <a:pt x="5011" y="10220"/>
                </a:cubicBezTo>
                <a:cubicBezTo>
                  <a:pt x="5085" y="10267"/>
                  <a:pt x="5090" y="10247"/>
                  <a:pt x="5135" y="10195"/>
                </a:cubicBezTo>
              </a:path>
              <a:path w="7219" h="1712">
                <a:moveTo>
                  <a:pt x="5184" y="9922"/>
                </a:moveTo>
                <a:cubicBezTo>
                  <a:pt x="5157" y="9992"/>
                  <a:pt x="5159" y="10044"/>
                  <a:pt x="5159" y="10120"/>
                </a:cubicBezTo>
                <a:cubicBezTo>
                  <a:pt x="5159" y="10176"/>
                  <a:pt x="5176" y="10190"/>
                  <a:pt x="5184" y="10244"/>
                </a:cubicBezTo>
                <a:cubicBezTo>
                  <a:pt x="5209" y="10179"/>
                  <a:pt x="5230" y="10116"/>
                  <a:pt x="5234" y="10046"/>
                </a:cubicBezTo>
                <a:cubicBezTo>
                  <a:pt x="5237" y="9991"/>
                  <a:pt x="5261" y="9895"/>
                  <a:pt x="5283" y="9847"/>
                </a:cubicBezTo>
                <a:cubicBezTo>
                  <a:pt x="5294" y="9823"/>
                  <a:pt x="5339" y="9792"/>
                  <a:pt x="5358" y="9773"/>
                </a:cubicBezTo>
                <a:cubicBezTo>
                  <a:pt x="5414" y="9853"/>
                  <a:pt x="5444" y="9907"/>
                  <a:pt x="5482" y="9996"/>
                </a:cubicBezTo>
                <a:cubicBezTo>
                  <a:pt x="5516" y="10075"/>
                  <a:pt x="5504" y="10167"/>
                  <a:pt x="5531" y="10244"/>
                </a:cubicBezTo>
                <a:cubicBezTo>
                  <a:pt x="5559" y="10322"/>
                  <a:pt x="5630" y="10172"/>
                  <a:pt x="5631" y="10170"/>
                </a:cubicBezTo>
              </a:path>
              <a:path w="7219" h="1712">
                <a:moveTo>
                  <a:pt x="5705" y="9227"/>
                </a:moveTo>
                <a:cubicBezTo>
                  <a:pt x="5803" y="9174"/>
                  <a:pt x="5841" y="9178"/>
                  <a:pt x="5953" y="9178"/>
                </a:cubicBezTo>
                <a:cubicBezTo>
                  <a:pt x="6020" y="9178"/>
                  <a:pt x="6073" y="9164"/>
                  <a:pt x="6127" y="9153"/>
                </a:cubicBezTo>
                <a:cubicBezTo>
                  <a:pt x="6143" y="9153"/>
                  <a:pt x="6160" y="9153"/>
                  <a:pt x="6176" y="9153"/>
                </a:cubicBezTo>
              </a:path>
              <a:path w="7219" h="1712">
                <a:moveTo>
                  <a:pt x="5953" y="9178"/>
                </a:moveTo>
                <a:cubicBezTo>
                  <a:pt x="5931" y="9324"/>
                  <a:pt x="5948" y="9351"/>
                  <a:pt x="5953" y="9475"/>
                </a:cubicBezTo>
                <a:cubicBezTo>
                  <a:pt x="5953" y="9533"/>
                  <a:pt x="5936" y="9558"/>
                  <a:pt x="5978" y="9550"/>
                </a:cubicBezTo>
              </a:path>
              <a:path w="7219" h="1712">
                <a:moveTo>
                  <a:pt x="6127" y="9079"/>
                </a:moveTo>
                <a:cubicBezTo>
                  <a:pt x="6127" y="9234"/>
                  <a:pt x="6096" y="9433"/>
                  <a:pt x="6152" y="9575"/>
                </a:cubicBezTo>
                <a:cubicBezTo>
                  <a:pt x="6175" y="9623"/>
                  <a:pt x="6183" y="9637"/>
                  <a:pt x="6176" y="9674"/>
                </a:cubicBezTo>
              </a:path>
              <a:path w="7219" h="1712">
                <a:moveTo>
                  <a:pt x="5779" y="9575"/>
                </a:moveTo>
                <a:cubicBezTo>
                  <a:pt x="5885" y="9616"/>
                  <a:pt x="5994" y="9657"/>
                  <a:pt x="6102" y="9674"/>
                </a:cubicBezTo>
                <a:cubicBezTo>
                  <a:pt x="6176" y="9686"/>
                  <a:pt x="6233" y="9665"/>
                  <a:pt x="6300" y="9649"/>
                </a:cubicBezTo>
                <a:cubicBezTo>
                  <a:pt x="6308" y="9649"/>
                  <a:pt x="6317" y="9649"/>
                  <a:pt x="6325" y="9649"/>
                </a:cubicBezTo>
              </a:path>
              <a:path w="7219" h="1712">
                <a:moveTo>
                  <a:pt x="6226" y="9872"/>
                </a:moveTo>
                <a:cubicBezTo>
                  <a:pt x="6213" y="9925"/>
                  <a:pt x="6147" y="10086"/>
                  <a:pt x="6152" y="10145"/>
                </a:cubicBezTo>
                <a:cubicBezTo>
                  <a:pt x="6160" y="10236"/>
                  <a:pt x="6175" y="10278"/>
                  <a:pt x="6251" y="10319"/>
                </a:cubicBezTo>
                <a:cubicBezTo>
                  <a:pt x="6312" y="10351"/>
                  <a:pt x="6398" y="10335"/>
                  <a:pt x="6449" y="10294"/>
                </a:cubicBezTo>
                <a:cubicBezTo>
                  <a:pt x="6501" y="10252"/>
                  <a:pt x="6512" y="10198"/>
                  <a:pt x="6548" y="10145"/>
                </a:cubicBezTo>
                <a:cubicBezTo>
                  <a:pt x="6575" y="10106"/>
                  <a:pt x="6592" y="10020"/>
                  <a:pt x="6524" y="9996"/>
                </a:cubicBezTo>
                <a:cubicBezTo>
                  <a:pt x="6459" y="9973"/>
                  <a:pt x="6416" y="10004"/>
                  <a:pt x="6375" y="10046"/>
                </a:cubicBezTo>
                <a:cubicBezTo>
                  <a:pt x="6322" y="10100"/>
                  <a:pt x="6287" y="10136"/>
                  <a:pt x="6300" y="10220"/>
                </a:cubicBezTo>
                <a:cubicBezTo>
                  <a:pt x="6313" y="10303"/>
                  <a:pt x="6337" y="10308"/>
                  <a:pt x="6400" y="10344"/>
                </a:cubicBezTo>
              </a:path>
              <a:path w="7219" h="1712">
                <a:moveTo>
                  <a:pt x="6871" y="9203"/>
                </a:moveTo>
                <a:cubicBezTo>
                  <a:pt x="6980" y="9219"/>
                  <a:pt x="7087" y="9237"/>
                  <a:pt x="7193" y="9252"/>
                </a:cubicBezTo>
                <a:cubicBezTo>
                  <a:pt x="7256" y="9261"/>
                  <a:pt x="7418" y="9342"/>
                  <a:pt x="7466" y="9302"/>
                </a:cubicBezTo>
                <a:cubicBezTo>
                  <a:pt x="7466" y="9285"/>
                  <a:pt x="7466" y="9269"/>
                  <a:pt x="7466" y="9252"/>
                </a:cubicBezTo>
              </a:path>
              <a:path w="7219" h="1712">
                <a:moveTo>
                  <a:pt x="7268" y="9153"/>
                </a:moveTo>
                <a:cubicBezTo>
                  <a:pt x="7268" y="9453"/>
                  <a:pt x="7236" y="9791"/>
                  <a:pt x="7293" y="10071"/>
                </a:cubicBezTo>
                <a:cubicBezTo>
                  <a:pt x="7293" y="10120"/>
                  <a:pt x="7293" y="10137"/>
                  <a:pt x="7293" y="10170"/>
                </a:cubicBezTo>
              </a:path>
              <a:path w="7219" h="1712">
                <a:moveTo>
                  <a:pt x="7913" y="9897"/>
                </a:moveTo>
                <a:cubicBezTo>
                  <a:pt x="7929" y="9818"/>
                  <a:pt x="7939" y="9757"/>
                  <a:pt x="7838" y="9748"/>
                </a:cubicBezTo>
                <a:cubicBezTo>
                  <a:pt x="7743" y="9739"/>
                  <a:pt x="7718" y="9783"/>
                  <a:pt x="7665" y="9847"/>
                </a:cubicBezTo>
                <a:cubicBezTo>
                  <a:pt x="7618" y="9904"/>
                  <a:pt x="7612" y="9973"/>
                  <a:pt x="7640" y="10046"/>
                </a:cubicBezTo>
                <a:cubicBezTo>
                  <a:pt x="7666" y="10111"/>
                  <a:pt x="7749" y="10137"/>
                  <a:pt x="7813" y="10120"/>
                </a:cubicBezTo>
                <a:cubicBezTo>
                  <a:pt x="7861" y="10107"/>
                  <a:pt x="7921" y="10010"/>
                  <a:pt x="7913" y="9971"/>
                </a:cubicBezTo>
                <a:cubicBezTo>
                  <a:pt x="7888" y="9947"/>
                  <a:pt x="7879" y="9939"/>
                  <a:pt x="7863" y="9922"/>
                </a:cubicBezTo>
                <a:cubicBezTo>
                  <a:pt x="7871" y="9976"/>
                  <a:pt x="7879" y="10028"/>
                  <a:pt x="7913" y="10071"/>
                </a:cubicBezTo>
                <a:cubicBezTo>
                  <a:pt x="7956" y="10124"/>
                  <a:pt x="8012" y="10195"/>
                  <a:pt x="8062" y="10170"/>
                </a:cubicBezTo>
              </a:path>
              <a:path w="7219" h="1712">
                <a:moveTo>
                  <a:pt x="8136" y="9922"/>
                </a:moveTo>
                <a:cubicBezTo>
                  <a:pt x="8136" y="10036"/>
                  <a:pt x="8141" y="10146"/>
                  <a:pt x="8161" y="10244"/>
                </a:cubicBezTo>
                <a:cubicBezTo>
                  <a:pt x="8161" y="10261"/>
                  <a:pt x="8161" y="10277"/>
                  <a:pt x="8161" y="10294"/>
                </a:cubicBezTo>
                <a:cubicBezTo>
                  <a:pt x="8187" y="10208"/>
                  <a:pt x="8179" y="10103"/>
                  <a:pt x="8210" y="10021"/>
                </a:cubicBezTo>
                <a:cubicBezTo>
                  <a:pt x="8226" y="9979"/>
                  <a:pt x="8315" y="9907"/>
                  <a:pt x="8359" y="9922"/>
                </a:cubicBezTo>
                <a:cubicBezTo>
                  <a:pt x="8401" y="9936"/>
                  <a:pt x="8451" y="10062"/>
                  <a:pt x="8458" y="10096"/>
                </a:cubicBezTo>
                <a:cubicBezTo>
                  <a:pt x="8469" y="10154"/>
                  <a:pt x="8498" y="10219"/>
                  <a:pt x="8508" y="10269"/>
                </a:cubicBezTo>
                <a:cubicBezTo>
                  <a:pt x="8509" y="10273"/>
                  <a:pt x="8549" y="10415"/>
                  <a:pt x="8582" y="10393"/>
                </a:cubicBezTo>
                <a:cubicBezTo>
                  <a:pt x="8590" y="10377"/>
                  <a:pt x="8599" y="10360"/>
                  <a:pt x="8607" y="10344"/>
                </a:cubicBezTo>
              </a:path>
              <a:path w="7219" h="1712">
                <a:moveTo>
                  <a:pt x="8806" y="9376"/>
                </a:moveTo>
                <a:cubicBezTo>
                  <a:pt x="9008" y="9330"/>
                  <a:pt x="8996" y="9331"/>
                  <a:pt x="9153" y="9351"/>
                </a:cubicBezTo>
                <a:cubicBezTo>
                  <a:pt x="9211" y="9351"/>
                  <a:pt x="9219" y="9351"/>
                  <a:pt x="9252" y="9351"/>
                </a:cubicBezTo>
              </a:path>
              <a:path w="7219" h="1712">
                <a:moveTo>
                  <a:pt x="8979" y="9525"/>
                </a:moveTo>
                <a:cubicBezTo>
                  <a:pt x="8979" y="9596"/>
                  <a:pt x="8957" y="9715"/>
                  <a:pt x="9004" y="9773"/>
                </a:cubicBezTo>
                <a:cubicBezTo>
                  <a:pt x="9012" y="9781"/>
                  <a:pt x="9021" y="9790"/>
                  <a:pt x="9029" y="9798"/>
                </a:cubicBezTo>
              </a:path>
              <a:path w="7219" h="1712">
                <a:moveTo>
                  <a:pt x="9128" y="9351"/>
                </a:moveTo>
                <a:cubicBezTo>
                  <a:pt x="9159" y="9414"/>
                  <a:pt x="9153" y="9474"/>
                  <a:pt x="9153" y="9550"/>
                </a:cubicBezTo>
                <a:cubicBezTo>
                  <a:pt x="9153" y="9640"/>
                  <a:pt x="9164" y="9714"/>
                  <a:pt x="9178" y="9798"/>
                </a:cubicBezTo>
                <a:cubicBezTo>
                  <a:pt x="9188" y="9859"/>
                  <a:pt x="9215" y="9911"/>
                  <a:pt x="9227" y="9971"/>
                </a:cubicBezTo>
              </a:path>
              <a:path w="7219" h="1712">
                <a:moveTo>
                  <a:pt x="8930" y="9996"/>
                </a:moveTo>
                <a:cubicBezTo>
                  <a:pt x="9011" y="9996"/>
                  <a:pt x="9078" y="10009"/>
                  <a:pt x="9153" y="10021"/>
                </a:cubicBezTo>
                <a:cubicBezTo>
                  <a:pt x="9224" y="10032"/>
                  <a:pt x="9305" y="10021"/>
                  <a:pt x="9376" y="10021"/>
                </a:cubicBezTo>
              </a:path>
              <a:path w="7219" h="1712">
                <a:moveTo>
                  <a:pt x="9277" y="10195"/>
                </a:moveTo>
                <a:cubicBezTo>
                  <a:pt x="9242" y="10254"/>
                  <a:pt x="9203" y="10284"/>
                  <a:pt x="9252" y="10344"/>
                </a:cubicBezTo>
                <a:cubicBezTo>
                  <a:pt x="9305" y="10409"/>
                  <a:pt x="9336" y="10420"/>
                  <a:pt x="9401" y="10443"/>
                </a:cubicBezTo>
                <a:cubicBezTo>
                  <a:pt x="9466" y="10466"/>
                  <a:pt x="9461" y="10456"/>
                  <a:pt x="9525" y="10443"/>
                </a:cubicBezTo>
              </a:path>
              <a:path w="7219" h="1712">
                <a:moveTo>
                  <a:pt x="9624" y="10071"/>
                </a:moveTo>
                <a:cubicBezTo>
                  <a:pt x="9598" y="10184"/>
                  <a:pt x="9579" y="10301"/>
                  <a:pt x="9575" y="10418"/>
                </a:cubicBezTo>
                <a:cubicBezTo>
                  <a:pt x="9574" y="10452"/>
                  <a:pt x="9582" y="10800"/>
                  <a:pt x="9599" y="10790"/>
                </a:cubicBezTo>
                <a:cubicBezTo>
                  <a:pt x="9624" y="10765"/>
                  <a:pt x="9649" y="10741"/>
                  <a:pt x="9674" y="107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Ink 14"/>
          <p:cNvSpPr/>
          <p:nvPr/>
        </p:nvSpPr>
        <p:spPr>
          <a:xfrm>
            <a:off x="4321080" y="3394080"/>
            <a:ext cx="1305000" cy="571320"/>
          </a:xfrm>
          <a:custGeom>
            <a:avLst/>
            <a:gdLst/>
            <a:ahLst/>
            <a:rect l="l" t="t" r="r" b="b"/>
            <a:pathLst>
              <a:path w="3623" h="1588">
                <a:moveTo>
                  <a:pt x="12005" y="9748"/>
                </a:moveTo>
                <a:cubicBezTo>
                  <a:pt x="12031" y="9799"/>
                  <a:pt x="12045" y="9885"/>
                  <a:pt x="12055" y="9947"/>
                </a:cubicBezTo>
                <a:cubicBezTo>
                  <a:pt x="12072" y="10046"/>
                  <a:pt x="12080" y="10143"/>
                  <a:pt x="12080" y="10244"/>
                </a:cubicBezTo>
                <a:cubicBezTo>
                  <a:pt x="12080" y="10332"/>
                  <a:pt x="12100" y="10407"/>
                  <a:pt x="12105" y="10492"/>
                </a:cubicBezTo>
                <a:cubicBezTo>
                  <a:pt x="12109" y="10570"/>
                  <a:pt x="12119" y="10650"/>
                  <a:pt x="12129" y="10716"/>
                </a:cubicBezTo>
                <a:cubicBezTo>
                  <a:pt x="12129" y="10774"/>
                  <a:pt x="12129" y="10782"/>
                  <a:pt x="12129" y="10815"/>
                </a:cubicBezTo>
              </a:path>
              <a:path w="3623" h="1588">
                <a:moveTo>
                  <a:pt x="12229" y="10344"/>
                </a:moveTo>
                <a:cubicBezTo>
                  <a:pt x="12301" y="10333"/>
                  <a:pt x="12345" y="10319"/>
                  <a:pt x="12427" y="10319"/>
                </a:cubicBezTo>
                <a:cubicBezTo>
                  <a:pt x="12503" y="10319"/>
                  <a:pt x="12529" y="10319"/>
                  <a:pt x="12576" y="10294"/>
                </a:cubicBezTo>
              </a:path>
              <a:path w="3623" h="1588">
                <a:moveTo>
                  <a:pt x="12998" y="9872"/>
                </a:moveTo>
                <a:cubicBezTo>
                  <a:pt x="13005" y="10015"/>
                  <a:pt x="13026" y="10018"/>
                  <a:pt x="13047" y="10120"/>
                </a:cubicBezTo>
                <a:cubicBezTo>
                  <a:pt x="13047" y="10137"/>
                  <a:pt x="13047" y="10153"/>
                  <a:pt x="13047" y="10170"/>
                </a:cubicBezTo>
                <a:cubicBezTo>
                  <a:pt x="13047" y="10096"/>
                  <a:pt x="13026" y="10042"/>
                  <a:pt x="13022" y="9971"/>
                </a:cubicBezTo>
                <a:cubicBezTo>
                  <a:pt x="13019" y="9915"/>
                  <a:pt x="12991" y="9794"/>
                  <a:pt x="12998" y="9748"/>
                </a:cubicBezTo>
                <a:cubicBezTo>
                  <a:pt x="13005" y="9703"/>
                  <a:pt x="13023" y="9597"/>
                  <a:pt x="13047" y="9550"/>
                </a:cubicBezTo>
                <a:cubicBezTo>
                  <a:pt x="13067" y="9511"/>
                  <a:pt x="13099" y="9454"/>
                  <a:pt x="13146" y="9451"/>
                </a:cubicBezTo>
                <a:cubicBezTo>
                  <a:pt x="13217" y="9446"/>
                  <a:pt x="13271" y="9426"/>
                  <a:pt x="13345" y="9426"/>
                </a:cubicBezTo>
                <a:cubicBezTo>
                  <a:pt x="13362" y="9426"/>
                  <a:pt x="13378" y="9426"/>
                  <a:pt x="13395" y="9426"/>
                </a:cubicBezTo>
              </a:path>
              <a:path w="3623" h="1588">
                <a:moveTo>
                  <a:pt x="13271" y="9575"/>
                </a:moveTo>
                <a:cubicBezTo>
                  <a:pt x="13336" y="9550"/>
                  <a:pt x="13386" y="9530"/>
                  <a:pt x="13444" y="9575"/>
                </a:cubicBezTo>
                <a:cubicBezTo>
                  <a:pt x="13510" y="9626"/>
                  <a:pt x="13487" y="9666"/>
                  <a:pt x="13444" y="9723"/>
                </a:cubicBezTo>
                <a:cubicBezTo>
                  <a:pt x="13410" y="9768"/>
                  <a:pt x="13361" y="9807"/>
                  <a:pt x="13320" y="9847"/>
                </a:cubicBezTo>
                <a:cubicBezTo>
                  <a:pt x="13390" y="9792"/>
                  <a:pt x="13429" y="9802"/>
                  <a:pt x="13519" y="9847"/>
                </a:cubicBezTo>
                <a:cubicBezTo>
                  <a:pt x="13575" y="9875"/>
                  <a:pt x="13590" y="9942"/>
                  <a:pt x="13593" y="9996"/>
                </a:cubicBezTo>
                <a:cubicBezTo>
                  <a:pt x="13597" y="10065"/>
                  <a:pt x="13538" y="10108"/>
                  <a:pt x="13469" y="10120"/>
                </a:cubicBezTo>
                <a:cubicBezTo>
                  <a:pt x="13403" y="10120"/>
                  <a:pt x="13386" y="10120"/>
                  <a:pt x="13345" y="10120"/>
                </a:cubicBezTo>
              </a:path>
              <a:path w="3623" h="1588">
                <a:moveTo>
                  <a:pt x="13072" y="10120"/>
                </a:moveTo>
                <a:cubicBezTo>
                  <a:pt x="13166" y="10120"/>
                  <a:pt x="13233" y="10140"/>
                  <a:pt x="13320" y="10145"/>
                </a:cubicBezTo>
                <a:cubicBezTo>
                  <a:pt x="13396" y="10149"/>
                  <a:pt x="13459" y="10132"/>
                  <a:pt x="13519" y="10120"/>
                </a:cubicBezTo>
                <a:cubicBezTo>
                  <a:pt x="13591" y="10105"/>
                  <a:pt x="13646" y="10122"/>
                  <a:pt x="13717" y="10096"/>
                </a:cubicBezTo>
              </a:path>
              <a:path w="3623" h="1588">
                <a:moveTo>
                  <a:pt x="13295" y="10393"/>
                </a:moveTo>
                <a:cubicBezTo>
                  <a:pt x="13394" y="10411"/>
                  <a:pt x="13411" y="10381"/>
                  <a:pt x="13494" y="10368"/>
                </a:cubicBezTo>
                <a:cubicBezTo>
                  <a:pt x="13582" y="10355"/>
                  <a:pt x="13650" y="10364"/>
                  <a:pt x="13717" y="10418"/>
                </a:cubicBezTo>
                <a:cubicBezTo>
                  <a:pt x="13694" y="10497"/>
                  <a:pt x="13661" y="10491"/>
                  <a:pt x="13593" y="10542"/>
                </a:cubicBezTo>
                <a:cubicBezTo>
                  <a:pt x="13557" y="10569"/>
                  <a:pt x="13532" y="10569"/>
                  <a:pt x="13494" y="10592"/>
                </a:cubicBezTo>
                <a:cubicBezTo>
                  <a:pt x="13604" y="10592"/>
                  <a:pt x="13657" y="10593"/>
                  <a:pt x="13742" y="10666"/>
                </a:cubicBezTo>
                <a:cubicBezTo>
                  <a:pt x="13794" y="10710"/>
                  <a:pt x="13812" y="10748"/>
                  <a:pt x="13816" y="10815"/>
                </a:cubicBezTo>
                <a:cubicBezTo>
                  <a:pt x="13819" y="10864"/>
                  <a:pt x="13785" y="10934"/>
                  <a:pt x="13742" y="10964"/>
                </a:cubicBezTo>
                <a:cubicBezTo>
                  <a:pt x="13676" y="11011"/>
                  <a:pt x="13537" y="10991"/>
                  <a:pt x="13469" y="10964"/>
                </a:cubicBezTo>
                <a:cubicBezTo>
                  <a:pt x="13422" y="10945"/>
                  <a:pt x="13369" y="10891"/>
                  <a:pt x="13320" y="10864"/>
                </a:cubicBezTo>
              </a:path>
              <a:path w="3623" h="1588">
                <a:moveTo>
                  <a:pt x="14461" y="9575"/>
                </a:moveTo>
                <a:cubicBezTo>
                  <a:pt x="14409" y="9712"/>
                  <a:pt x="14399" y="9843"/>
                  <a:pt x="14362" y="9996"/>
                </a:cubicBezTo>
                <a:cubicBezTo>
                  <a:pt x="14332" y="10122"/>
                  <a:pt x="14349" y="10192"/>
                  <a:pt x="14362" y="10319"/>
                </a:cubicBezTo>
                <a:cubicBezTo>
                  <a:pt x="14371" y="10412"/>
                  <a:pt x="14390" y="10507"/>
                  <a:pt x="14436" y="10592"/>
                </a:cubicBezTo>
                <a:cubicBezTo>
                  <a:pt x="14480" y="10674"/>
                  <a:pt x="14585" y="10738"/>
                  <a:pt x="14660" y="10790"/>
                </a:cubicBezTo>
                <a:cubicBezTo>
                  <a:pt x="14723" y="10822"/>
                  <a:pt x="14755" y="10827"/>
                  <a:pt x="14808" y="10790"/>
                </a:cubicBezTo>
              </a:path>
              <a:path w="3623" h="1588">
                <a:moveTo>
                  <a:pt x="14982" y="9823"/>
                </a:moveTo>
                <a:cubicBezTo>
                  <a:pt x="14982" y="10017"/>
                  <a:pt x="14986" y="10204"/>
                  <a:pt x="15007" y="10393"/>
                </a:cubicBezTo>
                <a:cubicBezTo>
                  <a:pt x="15017" y="10483"/>
                  <a:pt x="15028" y="10577"/>
                  <a:pt x="15032" y="10666"/>
                </a:cubicBezTo>
                <a:cubicBezTo>
                  <a:pt x="15032" y="10711"/>
                  <a:pt x="15028" y="10731"/>
                  <a:pt x="15056" y="10691"/>
                </a:cubicBezTo>
              </a:path>
              <a:path w="3623" h="1588">
                <a:moveTo>
                  <a:pt x="15156" y="9550"/>
                </a:moveTo>
                <a:cubicBezTo>
                  <a:pt x="15255" y="9649"/>
                  <a:pt x="15353" y="9737"/>
                  <a:pt x="15404" y="9872"/>
                </a:cubicBezTo>
                <a:cubicBezTo>
                  <a:pt x="15470" y="10047"/>
                  <a:pt x="15533" y="10210"/>
                  <a:pt x="15577" y="10393"/>
                </a:cubicBezTo>
                <a:cubicBezTo>
                  <a:pt x="15599" y="10484"/>
                  <a:pt x="15639" y="10623"/>
                  <a:pt x="15627" y="10716"/>
                </a:cubicBezTo>
                <a:cubicBezTo>
                  <a:pt x="15616" y="10795"/>
                  <a:pt x="15606" y="10879"/>
                  <a:pt x="15553" y="10939"/>
                </a:cubicBezTo>
                <a:cubicBezTo>
                  <a:pt x="15513" y="10984"/>
                  <a:pt x="15464" y="11040"/>
                  <a:pt x="15404" y="10988"/>
                </a:cubicBezTo>
                <a:cubicBezTo>
                  <a:pt x="15404" y="10980"/>
                  <a:pt x="15404" y="10972"/>
                  <a:pt x="15404" y="109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Ink 15"/>
          <p:cNvSpPr/>
          <p:nvPr/>
        </p:nvSpPr>
        <p:spPr>
          <a:xfrm>
            <a:off x="6215040" y="3295800"/>
            <a:ext cx="88920" cy="534960"/>
          </a:xfrm>
          <a:custGeom>
            <a:avLst/>
            <a:gdLst/>
            <a:ahLst/>
            <a:rect l="l" t="t" r="r" b="b"/>
            <a:pathLst>
              <a:path w="249" h="1489">
                <a:moveTo>
                  <a:pt x="17462" y="9153"/>
                </a:moveTo>
                <a:cubicBezTo>
                  <a:pt x="17408" y="9209"/>
                  <a:pt x="17396" y="9229"/>
                  <a:pt x="17363" y="9302"/>
                </a:cubicBezTo>
                <a:cubicBezTo>
                  <a:pt x="17336" y="9362"/>
                  <a:pt x="17310" y="9422"/>
                  <a:pt x="17289" y="9475"/>
                </a:cubicBezTo>
                <a:cubicBezTo>
                  <a:pt x="17251" y="9570"/>
                  <a:pt x="17264" y="9672"/>
                  <a:pt x="17264" y="9773"/>
                </a:cubicBezTo>
                <a:cubicBezTo>
                  <a:pt x="17264" y="9922"/>
                  <a:pt x="17246" y="10078"/>
                  <a:pt x="17289" y="10220"/>
                </a:cubicBezTo>
                <a:cubicBezTo>
                  <a:pt x="17320" y="10322"/>
                  <a:pt x="17313" y="10436"/>
                  <a:pt x="17388" y="10517"/>
                </a:cubicBezTo>
                <a:cubicBezTo>
                  <a:pt x="17437" y="10569"/>
                  <a:pt x="17457" y="10601"/>
                  <a:pt x="17512" y="106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Ink 16"/>
          <p:cNvSpPr/>
          <p:nvPr/>
        </p:nvSpPr>
        <p:spPr>
          <a:xfrm>
            <a:off x="6750000" y="3054240"/>
            <a:ext cx="1403280" cy="776520"/>
          </a:xfrm>
          <a:custGeom>
            <a:avLst/>
            <a:gdLst/>
            <a:ahLst/>
            <a:rect l="l" t="t" r="r" b="b"/>
            <a:pathLst>
              <a:path w="3896" h="2159">
                <a:moveTo>
                  <a:pt x="18852" y="9475"/>
                </a:moveTo>
                <a:cubicBezTo>
                  <a:pt x="18852" y="9566"/>
                  <a:pt x="18852" y="9657"/>
                  <a:pt x="18852" y="9748"/>
                </a:cubicBezTo>
                <a:cubicBezTo>
                  <a:pt x="18821" y="9657"/>
                  <a:pt x="18827" y="9573"/>
                  <a:pt x="18827" y="9475"/>
                </a:cubicBezTo>
                <a:cubicBezTo>
                  <a:pt x="18827" y="9408"/>
                  <a:pt x="18841" y="9356"/>
                  <a:pt x="18852" y="9302"/>
                </a:cubicBezTo>
                <a:cubicBezTo>
                  <a:pt x="18864" y="9241"/>
                  <a:pt x="18866" y="9191"/>
                  <a:pt x="18926" y="9153"/>
                </a:cubicBezTo>
                <a:cubicBezTo>
                  <a:pt x="18993" y="9110"/>
                  <a:pt x="19019" y="9103"/>
                  <a:pt x="19100" y="9103"/>
                </a:cubicBezTo>
                <a:cubicBezTo>
                  <a:pt x="19141" y="9103"/>
                  <a:pt x="19149" y="9103"/>
                  <a:pt x="19174" y="9103"/>
                </a:cubicBezTo>
              </a:path>
              <a:path w="3896" h="2159">
                <a:moveTo>
                  <a:pt x="19000" y="9351"/>
                </a:moveTo>
                <a:cubicBezTo>
                  <a:pt x="19063" y="9321"/>
                  <a:pt x="19104" y="9321"/>
                  <a:pt x="19149" y="9327"/>
                </a:cubicBezTo>
                <a:cubicBezTo>
                  <a:pt x="19214" y="9336"/>
                  <a:pt x="19269" y="9348"/>
                  <a:pt x="19224" y="9426"/>
                </a:cubicBezTo>
                <a:cubicBezTo>
                  <a:pt x="19201" y="9466"/>
                  <a:pt x="19153" y="9484"/>
                  <a:pt x="19124" y="9525"/>
                </a:cubicBezTo>
                <a:cubicBezTo>
                  <a:pt x="19194" y="9441"/>
                  <a:pt x="19204" y="9474"/>
                  <a:pt x="19273" y="9525"/>
                </a:cubicBezTo>
                <a:cubicBezTo>
                  <a:pt x="19350" y="9582"/>
                  <a:pt x="19365" y="9606"/>
                  <a:pt x="19323" y="9699"/>
                </a:cubicBezTo>
                <a:cubicBezTo>
                  <a:pt x="19292" y="9769"/>
                  <a:pt x="19256" y="9780"/>
                  <a:pt x="19199" y="9823"/>
                </a:cubicBezTo>
                <a:cubicBezTo>
                  <a:pt x="19149" y="9860"/>
                  <a:pt x="19088" y="9847"/>
                  <a:pt x="19025" y="9847"/>
                </a:cubicBezTo>
              </a:path>
              <a:path w="3896" h="2159">
                <a:moveTo>
                  <a:pt x="18752" y="9798"/>
                </a:moveTo>
                <a:cubicBezTo>
                  <a:pt x="18919" y="9798"/>
                  <a:pt x="19236" y="9739"/>
                  <a:pt x="19372" y="9823"/>
                </a:cubicBezTo>
              </a:path>
              <a:path w="3896" h="2159">
                <a:moveTo>
                  <a:pt x="18926" y="10046"/>
                </a:moveTo>
                <a:lnTo>
                  <a:pt x="18926" y="10046"/>
                </a:lnTo>
              </a:path>
              <a:path w="3896" h="2159">
                <a:moveTo>
                  <a:pt x="18926" y="10046"/>
                </a:moveTo>
                <a:cubicBezTo>
                  <a:pt x="18943" y="10038"/>
                  <a:pt x="18959" y="10029"/>
                  <a:pt x="18976" y="10021"/>
                </a:cubicBezTo>
              </a:path>
              <a:path w="3896" h="2159">
                <a:moveTo>
                  <a:pt x="18976" y="10021"/>
                </a:moveTo>
                <a:cubicBezTo>
                  <a:pt x="19015" y="9997"/>
                  <a:pt x="19097" y="9976"/>
                  <a:pt x="19149" y="9996"/>
                </a:cubicBezTo>
                <a:cubicBezTo>
                  <a:pt x="19211" y="10020"/>
                  <a:pt x="19207" y="10080"/>
                  <a:pt x="19174" y="10120"/>
                </a:cubicBezTo>
                <a:cubicBezTo>
                  <a:pt x="19140" y="10162"/>
                  <a:pt x="19109" y="10203"/>
                  <a:pt x="19075" y="10244"/>
                </a:cubicBezTo>
                <a:cubicBezTo>
                  <a:pt x="19056" y="10170"/>
                  <a:pt x="19135" y="10192"/>
                  <a:pt x="19199" y="10220"/>
                </a:cubicBezTo>
                <a:cubicBezTo>
                  <a:pt x="19234" y="10235"/>
                  <a:pt x="19338" y="10272"/>
                  <a:pt x="19348" y="10319"/>
                </a:cubicBezTo>
                <a:cubicBezTo>
                  <a:pt x="19369" y="10417"/>
                  <a:pt x="19337" y="10453"/>
                  <a:pt x="19273" y="10517"/>
                </a:cubicBezTo>
                <a:cubicBezTo>
                  <a:pt x="19236" y="10554"/>
                  <a:pt x="19154" y="10565"/>
                  <a:pt x="19100" y="10567"/>
                </a:cubicBezTo>
                <a:cubicBezTo>
                  <a:pt x="19003" y="10571"/>
                  <a:pt x="19000" y="10589"/>
                  <a:pt x="18976" y="10517"/>
                </a:cubicBezTo>
              </a:path>
              <a:path w="3896" h="2159">
                <a:moveTo>
                  <a:pt x="19348" y="9103"/>
                </a:moveTo>
                <a:cubicBezTo>
                  <a:pt x="19408" y="9127"/>
                  <a:pt x="19459" y="9145"/>
                  <a:pt x="19496" y="9203"/>
                </a:cubicBezTo>
                <a:cubicBezTo>
                  <a:pt x="19539" y="9269"/>
                  <a:pt x="19579" y="9337"/>
                  <a:pt x="19621" y="9401"/>
                </a:cubicBezTo>
                <a:cubicBezTo>
                  <a:pt x="19673" y="9480"/>
                  <a:pt x="19675" y="9565"/>
                  <a:pt x="19695" y="9649"/>
                </a:cubicBezTo>
                <a:cubicBezTo>
                  <a:pt x="19719" y="9751"/>
                  <a:pt x="19720" y="9840"/>
                  <a:pt x="19720" y="9947"/>
                </a:cubicBezTo>
                <a:cubicBezTo>
                  <a:pt x="19720" y="10070"/>
                  <a:pt x="19687" y="10202"/>
                  <a:pt x="19645" y="10319"/>
                </a:cubicBezTo>
                <a:cubicBezTo>
                  <a:pt x="19624" y="10379"/>
                  <a:pt x="19588" y="10446"/>
                  <a:pt x="19546" y="10492"/>
                </a:cubicBezTo>
                <a:cubicBezTo>
                  <a:pt x="19523" y="10515"/>
                  <a:pt x="19515" y="10526"/>
                  <a:pt x="19521" y="10492"/>
                </a:cubicBezTo>
              </a:path>
              <a:path w="3896" h="2159">
                <a:moveTo>
                  <a:pt x="20141" y="9004"/>
                </a:moveTo>
                <a:cubicBezTo>
                  <a:pt x="20111" y="9088"/>
                  <a:pt x="20082" y="9186"/>
                  <a:pt x="20067" y="9277"/>
                </a:cubicBezTo>
                <a:cubicBezTo>
                  <a:pt x="20054" y="9358"/>
                  <a:pt x="20046" y="9444"/>
                  <a:pt x="20042" y="9525"/>
                </a:cubicBezTo>
                <a:cubicBezTo>
                  <a:pt x="20038" y="9618"/>
                  <a:pt x="20017" y="9702"/>
                  <a:pt x="20017" y="9798"/>
                </a:cubicBezTo>
                <a:cubicBezTo>
                  <a:pt x="20017" y="9957"/>
                  <a:pt x="19991" y="10141"/>
                  <a:pt x="20042" y="10294"/>
                </a:cubicBezTo>
                <a:cubicBezTo>
                  <a:pt x="20054" y="10330"/>
                  <a:pt x="20102" y="10454"/>
                  <a:pt x="20141" y="10468"/>
                </a:cubicBezTo>
                <a:cubicBezTo>
                  <a:pt x="20158" y="10468"/>
                  <a:pt x="20174" y="10468"/>
                  <a:pt x="20191" y="10468"/>
                </a:cubicBezTo>
              </a:path>
              <a:path w="3896" h="2159">
                <a:moveTo>
                  <a:pt x="20489" y="9277"/>
                </a:moveTo>
                <a:cubicBezTo>
                  <a:pt x="20469" y="9398"/>
                  <a:pt x="20464" y="9502"/>
                  <a:pt x="20464" y="9624"/>
                </a:cubicBezTo>
                <a:cubicBezTo>
                  <a:pt x="20464" y="9730"/>
                  <a:pt x="20497" y="9877"/>
                  <a:pt x="20489" y="9971"/>
                </a:cubicBezTo>
                <a:cubicBezTo>
                  <a:pt x="20483" y="10048"/>
                  <a:pt x="20464" y="10115"/>
                  <a:pt x="20464" y="10195"/>
                </a:cubicBezTo>
                <a:cubicBezTo>
                  <a:pt x="20464" y="10245"/>
                  <a:pt x="20464" y="10294"/>
                  <a:pt x="20464" y="10344"/>
                </a:cubicBezTo>
              </a:path>
              <a:path w="3896" h="2159">
                <a:moveTo>
                  <a:pt x="20886" y="9475"/>
                </a:moveTo>
                <a:cubicBezTo>
                  <a:pt x="20908" y="9564"/>
                  <a:pt x="20887" y="9662"/>
                  <a:pt x="20910" y="9748"/>
                </a:cubicBezTo>
                <a:cubicBezTo>
                  <a:pt x="20930" y="9822"/>
                  <a:pt x="20917" y="9897"/>
                  <a:pt x="20935" y="9971"/>
                </a:cubicBezTo>
                <a:cubicBezTo>
                  <a:pt x="20940" y="9992"/>
                  <a:pt x="20962" y="10145"/>
                  <a:pt x="20985" y="10145"/>
                </a:cubicBezTo>
                <a:cubicBezTo>
                  <a:pt x="20985" y="10137"/>
                  <a:pt x="20985" y="10128"/>
                  <a:pt x="20985" y="10120"/>
                </a:cubicBezTo>
              </a:path>
              <a:path w="3896" h="2159">
                <a:moveTo>
                  <a:pt x="20737" y="9748"/>
                </a:moveTo>
                <a:cubicBezTo>
                  <a:pt x="20826" y="9754"/>
                  <a:pt x="20896" y="9773"/>
                  <a:pt x="20985" y="9773"/>
                </a:cubicBezTo>
                <a:cubicBezTo>
                  <a:pt x="21035" y="9773"/>
                  <a:pt x="21084" y="9773"/>
                  <a:pt x="21134" y="9773"/>
                </a:cubicBezTo>
              </a:path>
              <a:path w="3896" h="2159">
                <a:moveTo>
                  <a:pt x="21406" y="9401"/>
                </a:moveTo>
                <a:cubicBezTo>
                  <a:pt x="21420" y="9484"/>
                  <a:pt x="21421" y="9623"/>
                  <a:pt x="21456" y="9699"/>
                </a:cubicBezTo>
                <a:cubicBezTo>
                  <a:pt x="21464" y="9707"/>
                  <a:pt x="21473" y="9715"/>
                  <a:pt x="21481" y="9723"/>
                </a:cubicBezTo>
                <a:cubicBezTo>
                  <a:pt x="21481" y="9571"/>
                  <a:pt x="21480" y="9414"/>
                  <a:pt x="21506" y="9277"/>
                </a:cubicBezTo>
                <a:cubicBezTo>
                  <a:pt x="21520" y="9200"/>
                  <a:pt x="21504" y="9170"/>
                  <a:pt x="21555" y="9103"/>
                </a:cubicBezTo>
                <a:cubicBezTo>
                  <a:pt x="21597" y="9048"/>
                  <a:pt x="21616" y="9013"/>
                  <a:pt x="21679" y="8979"/>
                </a:cubicBezTo>
                <a:cubicBezTo>
                  <a:pt x="21738" y="8947"/>
                  <a:pt x="21787" y="8954"/>
                  <a:pt x="21853" y="8954"/>
                </a:cubicBezTo>
              </a:path>
              <a:path w="3896" h="2159">
                <a:moveTo>
                  <a:pt x="21654" y="9227"/>
                </a:moveTo>
                <a:cubicBezTo>
                  <a:pt x="21714" y="9219"/>
                  <a:pt x="21767" y="9199"/>
                  <a:pt x="21828" y="9227"/>
                </a:cubicBezTo>
                <a:cubicBezTo>
                  <a:pt x="21888" y="9255"/>
                  <a:pt x="21888" y="9308"/>
                  <a:pt x="21853" y="9351"/>
                </a:cubicBezTo>
                <a:cubicBezTo>
                  <a:pt x="21828" y="9381"/>
                  <a:pt x="21787" y="9430"/>
                  <a:pt x="21754" y="9451"/>
                </a:cubicBezTo>
                <a:cubicBezTo>
                  <a:pt x="21710" y="9472"/>
                  <a:pt x="21689" y="9485"/>
                  <a:pt x="21729" y="9451"/>
                </a:cubicBezTo>
                <a:cubicBezTo>
                  <a:pt x="21873" y="9522"/>
                  <a:pt x="21883" y="9545"/>
                  <a:pt x="21729" y="9674"/>
                </a:cubicBezTo>
                <a:cubicBezTo>
                  <a:pt x="21721" y="9674"/>
                  <a:pt x="21712" y="9674"/>
                  <a:pt x="21704" y="9674"/>
                </a:cubicBezTo>
              </a:path>
              <a:path w="3896" h="2159">
                <a:moveTo>
                  <a:pt x="21431" y="9723"/>
                </a:moveTo>
                <a:cubicBezTo>
                  <a:pt x="21513" y="9723"/>
                  <a:pt x="21575" y="9710"/>
                  <a:pt x="21654" y="9699"/>
                </a:cubicBezTo>
                <a:cubicBezTo>
                  <a:pt x="21728" y="9689"/>
                  <a:pt x="21805" y="9678"/>
                  <a:pt x="21878" y="9674"/>
                </a:cubicBezTo>
                <a:cubicBezTo>
                  <a:pt x="21919" y="9672"/>
                  <a:pt x="21961" y="9674"/>
                  <a:pt x="22002" y="9674"/>
                </a:cubicBezTo>
              </a:path>
              <a:path w="3896" h="2159">
                <a:moveTo>
                  <a:pt x="21704" y="9897"/>
                </a:moveTo>
                <a:cubicBezTo>
                  <a:pt x="21776" y="9897"/>
                  <a:pt x="21872" y="9877"/>
                  <a:pt x="21927" y="9922"/>
                </a:cubicBezTo>
                <a:cubicBezTo>
                  <a:pt x="21964" y="9952"/>
                  <a:pt x="21917" y="10018"/>
                  <a:pt x="21878" y="10046"/>
                </a:cubicBezTo>
                <a:cubicBezTo>
                  <a:pt x="21842" y="10072"/>
                  <a:pt x="21722" y="10158"/>
                  <a:pt x="21754" y="10096"/>
                </a:cubicBezTo>
                <a:cubicBezTo>
                  <a:pt x="21822" y="10096"/>
                  <a:pt x="21899" y="10078"/>
                  <a:pt x="21952" y="10120"/>
                </a:cubicBezTo>
                <a:cubicBezTo>
                  <a:pt x="21996" y="10155"/>
                  <a:pt x="22025" y="10210"/>
                  <a:pt x="22002" y="10269"/>
                </a:cubicBezTo>
                <a:cubicBezTo>
                  <a:pt x="21988" y="10305"/>
                  <a:pt x="21939" y="10370"/>
                  <a:pt x="21903" y="10393"/>
                </a:cubicBezTo>
                <a:cubicBezTo>
                  <a:pt x="21828" y="10442"/>
                  <a:pt x="21814" y="10450"/>
                  <a:pt x="21729" y="10418"/>
                </a:cubicBezTo>
              </a:path>
              <a:path w="3896" h="2159">
                <a:moveTo>
                  <a:pt x="22151" y="8830"/>
                </a:moveTo>
                <a:cubicBezTo>
                  <a:pt x="22192" y="8872"/>
                  <a:pt x="22222" y="8902"/>
                  <a:pt x="22275" y="8930"/>
                </a:cubicBezTo>
                <a:cubicBezTo>
                  <a:pt x="22350" y="8970"/>
                  <a:pt x="22453" y="9078"/>
                  <a:pt x="22498" y="9153"/>
                </a:cubicBezTo>
                <a:cubicBezTo>
                  <a:pt x="22551" y="9241"/>
                  <a:pt x="22594" y="9351"/>
                  <a:pt x="22622" y="9451"/>
                </a:cubicBezTo>
                <a:cubicBezTo>
                  <a:pt x="22662" y="9593"/>
                  <a:pt x="22653" y="9730"/>
                  <a:pt x="22622" y="9872"/>
                </a:cubicBezTo>
                <a:cubicBezTo>
                  <a:pt x="22590" y="10019"/>
                  <a:pt x="22545" y="10188"/>
                  <a:pt x="22473" y="10319"/>
                </a:cubicBezTo>
                <a:cubicBezTo>
                  <a:pt x="22411" y="10431"/>
                  <a:pt x="22340" y="10526"/>
                  <a:pt x="22250" y="10616"/>
                </a:cubicBezTo>
                <a:cubicBezTo>
                  <a:pt x="22242" y="10624"/>
                  <a:pt x="22233" y="10633"/>
                  <a:pt x="22225" y="10641"/>
                </a:cubicBezTo>
              </a:path>
              <a:path w="3896" h="2159">
                <a:moveTo>
                  <a:pt x="19968" y="8781"/>
                </a:moveTo>
                <a:cubicBezTo>
                  <a:pt x="20145" y="8781"/>
                  <a:pt x="20320" y="8774"/>
                  <a:pt x="20489" y="8756"/>
                </a:cubicBezTo>
                <a:cubicBezTo>
                  <a:pt x="20594" y="8745"/>
                  <a:pt x="20708" y="8740"/>
                  <a:pt x="20811" y="8731"/>
                </a:cubicBezTo>
                <a:cubicBezTo>
                  <a:pt x="20971" y="8716"/>
                  <a:pt x="21125" y="8710"/>
                  <a:pt x="21282" y="8682"/>
                </a:cubicBezTo>
                <a:cubicBezTo>
                  <a:pt x="21421" y="8657"/>
                  <a:pt x="21566" y="8659"/>
                  <a:pt x="21704" y="8632"/>
                </a:cubicBezTo>
                <a:cubicBezTo>
                  <a:pt x="21817" y="8610"/>
                  <a:pt x="21936" y="8594"/>
                  <a:pt x="22051" y="8582"/>
                </a:cubicBezTo>
                <a:cubicBezTo>
                  <a:pt x="22142" y="8573"/>
                  <a:pt x="22235" y="8563"/>
                  <a:pt x="22324" y="8558"/>
                </a:cubicBezTo>
                <a:cubicBezTo>
                  <a:pt x="22382" y="8555"/>
                  <a:pt x="22455" y="8543"/>
                  <a:pt x="22498" y="8508"/>
                </a:cubicBezTo>
                <a:cubicBezTo>
                  <a:pt x="22498" y="8500"/>
                  <a:pt x="22498" y="8491"/>
                  <a:pt x="22498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Ink 17"/>
          <p:cNvSpPr/>
          <p:nvPr/>
        </p:nvSpPr>
        <p:spPr>
          <a:xfrm>
            <a:off x="544680" y="3054240"/>
            <a:ext cx="5251320" cy="2143080"/>
          </a:xfrm>
          <a:custGeom>
            <a:avLst/>
            <a:gdLst/>
            <a:ahLst/>
            <a:rect l="l" t="t" r="r" b="b"/>
            <a:pathLst>
              <a:path w="14586" h="5954">
                <a:moveTo>
                  <a:pt x="9699" y="8855"/>
                </a:moveTo>
                <a:cubicBezTo>
                  <a:pt x="9628" y="8888"/>
                  <a:pt x="9583" y="8940"/>
                  <a:pt x="9500" y="8954"/>
                </a:cubicBezTo>
                <a:cubicBezTo>
                  <a:pt x="9404" y="8970"/>
                  <a:pt x="9296" y="8943"/>
                  <a:pt x="9203" y="8930"/>
                </a:cubicBezTo>
                <a:cubicBezTo>
                  <a:pt x="9045" y="8909"/>
                  <a:pt x="8888" y="8897"/>
                  <a:pt x="8731" y="8880"/>
                </a:cubicBezTo>
                <a:cubicBezTo>
                  <a:pt x="8534" y="8858"/>
                  <a:pt x="8335" y="8847"/>
                  <a:pt x="8136" y="8830"/>
                </a:cubicBezTo>
                <a:cubicBezTo>
                  <a:pt x="7955" y="8815"/>
                  <a:pt x="7771" y="8823"/>
                  <a:pt x="7590" y="8806"/>
                </a:cubicBezTo>
                <a:cubicBezTo>
                  <a:pt x="7294" y="8778"/>
                  <a:pt x="6994" y="8761"/>
                  <a:pt x="6697" y="8756"/>
                </a:cubicBezTo>
                <a:cubicBezTo>
                  <a:pt x="6472" y="8752"/>
                  <a:pt x="6251" y="8717"/>
                  <a:pt x="6028" y="8706"/>
                </a:cubicBezTo>
                <a:cubicBezTo>
                  <a:pt x="5798" y="8694"/>
                  <a:pt x="5563" y="8700"/>
                  <a:pt x="5333" y="8682"/>
                </a:cubicBezTo>
                <a:cubicBezTo>
                  <a:pt x="5101" y="8663"/>
                  <a:pt x="4872" y="8635"/>
                  <a:pt x="4638" y="8632"/>
                </a:cubicBezTo>
                <a:cubicBezTo>
                  <a:pt x="4410" y="8629"/>
                  <a:pt x="4172" y="8626"/>
                  <a:pt x="3944" y="8607"/>
                </a:cubicBezTo>
                <a:cubicBezTo>
                  <a:pt x="3672" y="8584"/>
                  <a:pt x="3397" y="8548"/>
                  <a:pt x="3125" y="8533"/>
                </a:cubicBezTo>
                <a:cubicBezTo>
                  <a:pt x="2935" y="8523"/>
                  <a:pt x="2745" y="8522"/>
                  <a:pt x="2555" y="8508"/>
                </a:cubicBezTo>
                <a:cubicBezTo>
                  <a:pt x="2400" y="8497"/>
                  <a:pt x="2261" y="8504"/>
                  <a:pt x="2108" y="8508"/>
                </a:cubicBezTo>
                <a:cubicBezTo>
                  <a:pt x="1986" y="8511"/>
                  <a:pt x="1878" y="8517"/>
                  <a:pt x="1761" y="8533"/>
                </a:cubicBezTo>
                <a:cubicBezTo>
                  <a:pt x="1738" y="8536"/>
                  <a:pt x="1545" y="8533"/>
                  <a:pt x="1538" y="8558"/>
                </a:cubicBezTo>
                <a:cubicBezTo>
                  <a:pt x="1524" y="8605"/>
                  <a:pt x="1533" y="8535"/>
                  <a:pt x="1637" y="8607"/>
                </a:cubicBezTo>
              </a:path>
              <a:path w="14586" h="5954">
                <a:moveTo>
                  <a:pt x="11733" y="9004"/>
                </a:moveTo>
                <a:cubicBezTo>
                  <a:pt x="11926" y="9004"/>
                  <a:pt x="12140" y="8969"/>
                  <a:pt x="12328" y="8979"/>
                </a:cubicBezTo>
                <a:cubicBezTo>
                  <a:pt x="12433" y="8985"/>
                  <a:pt x="12540" y="9004"/>
                  <a:pt x="12650" y="9004"/>
                </a:cubicBezTo>
                <a:cubicBezTo>
                  <a:pt x="13040" y="9004"/>
                  <a:pt x="13431" y="8997"/>
                  <a:pt x="13816" y="9029"/>
                </a:cubicBezTo>
                <a:cubicBezTo>
                  <a:pt x="14095" y="9052"/>
                  <a:pt x="14383" y="9034"/>
                  <a:pt x="14660" y="9054"/>
                </a:cubicBezTo>
                <a:cubicBezTo>
                  <a:pt x="14808" y="9065"/>
                  <a:pt x="14959" y="9075"/>
                  <a:pt x="15106" y="9079"/>
                </a:cubicBezTo>
                <a:cubicBezTo>
                  <a:pt x="15250" y="9083"/>
                  <a:pt x="15385" y="9099"/>
                  <a:pt x="15528" y="9103"/>
                </a:cubicBezTo>
                <a:cubicBezTo>
                  <a:pt x="15651" y="9107"/>
                  <a:pt x="15779" y="9133"/>
                  <a:pt x="15900" y="9128"/>
                </a:cubicBezTo>
                <a:cubicBezTo>
                  <a:pt x="15928" y="9127"/>
                  <a:pt x="16059" y="9104"/>
                  <a:pt x="16073" y="9079"/>
                </a:cubicBezTo>
                <a:cubicBezTo>
                  <a:pt x="16103" y="9049"/>
                  <a:pt x="16105" y="9038"/>
                  <a:pt x="16049" y="9029"/>
                </a:cubicBezTo>
              </a:path>
              <a:path w="14586" h="5954">
                <a:moveTo>
                  <a:pt x="2009" y="13395"/>
                </a:moveTo>
                <a:cubicBezTo>
                  <a:pt x="2085" y="13390"/>
                  <a:pt x="2206" y="13402"/>
                  <a:pt x="2257" y="13395"/>
                </a:cubicBezTo>
                <a:cubicBezTo>
                  <a:pt x="2327" y="13385"/>
                  <a:pt x="2373" y="13393"/>
                  <a:pt x="2431" y="13395"/>
                </a:cubicBezTo>
                <a:cubicBezTo>
                  <a:pt x="2556" y="13400"/>
                  <a:pt x="2685" y="13411"/>
                  <a:pt x="2803" y="13419"/>
                </a:cubicBezTo>
                <a:cubicBezTo>
                  <a:pt x="2876" y="13424"/>
                  <a:pt x="2959" y="13440"/>
                  <a:pt x="3026" y="13444"/>
                </a:cubicBezTo>
                <a:cubicBezTo>
                  <a:pt x="3113" y="13450"/>
                  <a:pt x="3191" y="13463"/>
                  <a:pt x="3274" y="13469"/>
                </a:cubicBezTo>
                <a:cubicBezTo>
                  <a:pt x="3348" y="13474"/>
                  <a:pt x="3430" y="13490"/>
                  <a:pt x="3497" y="13494"/>
                </a:cubicBezTo>
                <a:cubicBezTo>
                  <a:pt x="3876" y="13518"/>
                  <a:pt x="4263" y="13494"/>
                  <a:pt x="4638" y="13519"/>
                </a:cubicBezTo>
                <a:cubicBezTo>
                  <a:pt x="4738" y="13526"/>
                  <a:pt x="4837" y="13538"/>
                  <a:pt x="4936" y="13543"/>
                </a:cubicBezTo>
                <a:cubicBezTo>
                  <a:pt x="5033" y="13548"/>
                  <a:pt x="5115" y="13557"/>
                  <a:pt x="5209" y="13568"/>
                </a:cubicBezTo>
                <a:cubicBezTo>
                  <a:pt x="5324" y="13582"/>
                  <a:pt x="5440" y="13590"/>
                  <a:pt x="5556" y="13593"/>
                </a:cubicBezTo>
                <a:cubicBezTo>
                  <a:pt x="5671" y="13596"/>
                  <a:pt x="5790" y="13604"/>
                  <a:pt x="5904" y="13618"/>
                </a:cubicBezTo>
                <a:cubicBezTo>
                  <a:pt x="6021" y="13632"/>
                  <a:pt x="6137" y="13648"/>
                  <a:pt x="6251" y="13667"/>
                </a:cubicBezTo>
                <a:cubicBezTo>
                  <a:pt x="6341" y="13682"/>
                  <a:pt x="6433" y="13679"/>
                  <a:pt x="6524" y="13692"/>
                </a:cubicBezTo>
                <a:cubicBezTo>
                  <a:pt x="6623" y="13707"/>
                  <a:pt x="6724" y="13724"/>
                  <a:pt x="6821" y="13742"/>
                </a:cubicBezTo>
                <a:cubicBezTo>
                  <a:pt x="6901" y="13757"/>
                  <a:pt x="6985" y="13777"/>
                  <a:pt x="7069" y="13791"/>
                </a:cubicBezTo>
                <a:cubicBezTo>
                  <a:pt x="7147" y="13804"/>
                  <a:pt x="7267" y="13845"/>
                  <a:pt x="7342" y="13841"/>
                </a:cubicBezTo>
                <a:cubicBezTo>
                  <a:pt x="7402" y="13838"/>
                  <a:pt x="7451" y="13824"/>
                  <a:pt x="7516" y="13816"/>
                </a:cubicBezTo>
                <a:cubicBezTo>
                  <a:pt x="7574" y="13809"/>
                  <a:pt x="7615" y="13794"/>
                  <a:pt x="7665" y="13767"/>
                </a:cubicBezTo>
                <a:cubicBezTo>
                  <a:pt x="7657" y="13767"/>
                  <a:pt x="7648" y="13767"/>
                  <a:pt x="7640" y="13767"/>
                </a:cubicBezTo>
              </a:path>
              <a:path w="14586" h="5954">
                <a:moveTo>
                  <a:pt x="9475" y="14039"/>
                </a:moveTo>
                <a:cubicBezTo>
                  <a:pt x="9538" y="14043"/>
                  <a:pt x="9626" y="14061"/>
                  <a:pt x="9674" y="14064"/>
                </a:cubicBezTo>
                <a:cubicBezTo>
                  <a:pt x="9823" y="14074"/>
                  <a:pt x="9971" y="14069"/>
                  <a:pt x="10120" y="14089"/>
                </a:cubicBezTo>
                <a:cubicBezTo>
                  <a:pt x="10302" y="14113"/>
                  <a:pt x="10484" y="14116"/>
                  <a:pt x="10666" y="14139"/>
                </a:cubicBezTo>
                <a:cubicBezTo>
                  <a:pt x="10957" y="14175"/>
                  <a:pt x="11265" y="14183"/>
                  <a:pt x="11559" y="14188"/>
                </a:cubicBezTo>
                <a:cubicBezTo>
                  <a:pt x="11844" y="14193"/>
                  <a:pt x="12117" y="14225"/>
                  <a:pt x="12402" y="14238"/>
                </a:cubicBezTo>
                <a:cubicBezTo>
                  <a:pt x="12651" y="14249"/>
                  <a:pt x="12898" y="14258"/>
                  <a:pt x="13146" y="14288"/>
                </a:cubicBezTo>
                <a:cubicBezTo>
                  <a:pt x="13378" y="14316"/>
                  <a:pt x="13610" y="14338"/>
                  <a:pt x="13841" y="14362"/>
                </a:cubicBezTo>
                <a:cubicBezTo>
                  <a:pt x="14024" y="14381"/>
                  <a:pt x="14203" y="14423"/>
                  <a:pt x="14387" y="14436"/>
                </a:cubicBezTo>
                <a:cubicBezTo>
                  <a:pt x="14511" y="14445"/>
                  <a:pt x="14734" y="14476"/>
                  <a:pt x="14833" y="14412"/>
                </a:cubicBezTo>
                <a:cubicBezTo>
                  <a:pt x="14948" y="14338"/>
                  <a:pt x="14825" y="14433"/>
                  <a:pt x="14883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Ink 18"/>
          <p:cNvSpPr/>
          <p:nvPr/>
        </p:nvSpPr>
        <p:spPr>
          <a:xfrm>
            <a:off x="6037200" y="4848120"/>
            <a:ext cx="455760" cy="768600"/>
          </a:xfrm>
          <a:custGeom>
            <a:avLst/>
            <a:gdLst/>
            <a:ahLst/>
            <a:rect l="l" t="t" r="r" b="b"/>
            <a:pathLst>
              <a:path w="1266" h="2134">
                <a:moveTo>
                  <a:pt x="18033" y="13469"/>
                </a:moveTo>
                <a:cubicBezTo>
                  <a:pt x="18016" y="13469"/>
                  <a:pt x="18000" y="13469"/>
                  <a:pt x="17983" y="13469"/>
                </a:cubicBezTo>
              </a:path>
              <a:path w="1266" h="2134">
                <a:moveTo>
                  <a:pt x="17884" y="13543"/>
                </a:moveTo>
                <a:cubicBezTo>
                  <a:pt x="17794" y="13635"/>
                  <a:pt x="17732" y="13717"/>
                  <a:pt x="17661" y="13816"/>
                </a:cubicBezTo>
                <a:cubicBezTo>
                  <a:pt x="17500" y="14040"/>
                  <a:pt x="17370" y="14261"/>
                  <a:pt x="17239" y="14511"/>
                </a:cubicBezTo>
                <a:cubicBezTo>
                  <a:pt x="17087" y="14800"/>
                  <a:pt x="17003" y="15116"/>
                  <a:pt x="16917" y="15429"/>
                </a:cubicBezTo>
                <a:cubicBezTo>
                  <a:pt x="16897" y="15530"/>
                  <a:pt x="16899" y="15550"/>
                  <a:pt x="16867" y="15602"/>
                </a:cubicBezTo>
                <a:cubicBezTo>
                  <a:pt x="16814" y="15534"/>
                  <a:pt x="16796" y="15488"/>
                  <a:pt x="16768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Ink 19"/>
          <p:cNvSpPr/>
          <p:nvPr/>
        </p:nvSpPr>
        <p:spPr>
          <a:xfrm>
            <a:off x="7134120" y="4187880"/>
            <a:ext cx="1465200" cy="608040"/>
          </a:xfrm>
          <a:custGeom>
            <a:avLst/>
            <a:gdLst/>
            <a:ahLst/>
            <a:rect l="l" t="t" r="r" b="b"/>
            <a:pathLst>
              <a:path w="4069" h="1688">
                <a:moveTo>
                  <a:pt x="21158" y="11708"/>
                </a:moveTo>
                <a:cubicBezTo>
                  <a:pt x="20423" y="12364"/>
                  <a:pt x="20178" y="12577"/>
                  <a:pt x="19819" y="13320"/>
                </a:cubicBezTo>
              </a:path>
              <a:path w="4069" h="1688">
                <a:moveTo>
                  <a:pt x="20786" y="12750"/>
                </a:moveTo>
                <a:cubicBezTo>
                  <a:pt x="20856" y="12740"/>
                  <a:pt x="20908" y="12704"/>
                  <a:pt x="20985" y="12700"/>
                </a:cubicBezTo>
                <a:cubicBezTo>
                  <a:pt x="21026" y="12698"/>
                  <a:pt x="21068" y="12700"/>
                  <a:pt x="21109" y="12700"/>
                </a:cubicBezTo>
              </a:path>
              <a:path w="4069" h="1688">
                <a:moveTo>
                  <a:pt x="20910" y="13072"/>
                </a:moveTo>
                <a:cubicBezTo>
                  <a:pt x="20997" y="13056"/>
                  <a:pt x="21079" y="13027"/>
                  <a:pt x="21158" y="13022"/>
                </a:cubicBezTo>
                <a:cubicBezTo>
                  <a:pt x="21218" y="13018"/>
                  <a:pt x="21221" y="13023"/>
                  <a:pt x="21233" y="13072"/>
                </a:cubicBezTo>
              </a:path>
              <a:path w="4069" h="1688">
                <a:moveTo>
                  <a:pt x="21878" y="12030"/>
                </a:moveTo>
                <a:cubicBezTo>
                  <a:pt x="21934" y="11985"/>
                  <a:pt x="21983" y="11956"/>
                  <a:pt x="22051" y="12005"/>
                </a:cubicBezTo>
                <a:cubicBezTo>
                  <a:pt x="22117" y="12053"/>
                  <a:pt x="22126" y="12080"/>
                  <a:pt x="22126" y="12154"/>
                </a:cubicBezTo>
                <a:cubicBezTo>
                  <a:pt x="22126" y="12263"/>
                  <a:pt x="22071" y="12294"/>
                  <a:pt x="22027" y="12378"/>
                </a:cubicBezTo>
                <a:cubicBezTo>
                  <a:pt x="21983" y="12463"/>
                  <a:pt x="21966" y="12549"/>
                  <a:pt x="21903" y="12626"/>
                </a:cubicBezTo>
                <a:cubicBezTo>
                  <a:pt x="21875" y="12661"/>
                  <a:pt x="21835" y="12693"/>
                  <a:pt x="21803" y="12725"/>
                </a:cubicBezTo>
                <a:cubicBezTo>
                  <a:pt x="21776" y="12650"/>
                  <a:pt x="21770" y="12547"/>
                  <a:pt x="21828" y="12477"/>
                </a:cubicBezTo>
                <a:cubicBezTo>
                  <a:pt x="21853" y="12446"/>
                  <a:pt x="21919" y="12410"/>
                  <a:pt x="21952" y="12378"/>
                </a:cubicBezTo>
                <a:cubicBezTo>
                  <a:pt x="22011" y="12435"/>
                  <a:pt x="22057" y="12493"/>
                  <a:pt x="22076" y="12576"/>
                </a:cubicBezTo>
                <a:cubicBezTo>
                  <a:pt x="22091" y="12643"/>
                  <a:pt x="22076" y="12731"/>
                  <a:pt x="22076" y="12799"/>
                </a:cubicBezTo>
              </a:path>
              <a:path w="4069" h="1688">
                <a:moveTo>
                  <a:pt x="22349" y="12129"/>
                </a:moveTo>
                <a:cubicBezTo>
                  <a:pt x="22356" y="12226"/>
                  <a:pt x="22374" y="12304"/>
                  <a:pt x="22374" y="12402"/>
                </a:cubicBezTo>
                <a:cubicBezTo>
                  <a:pt x="22374" y="12437"/>
                  <a:pt x="22404" y="12640"/>
                  <a:pt x="22399" y="12650"/>
                </a:cubicBezTo>
                <a:cubicBezTo>
                  <a:pt x="22391" y="12642"/>
                  <a:pt x="22382" y="12634"/>
                  <a:pt x="22374" y="12626"/>
                </a:cubicBezTo>
                <a:cubicBezTo>
                  <a:pt x="22374" y="12545"/>
                  <a:pt x="22353" y="12505"/>
                  <a:pt x="22349" y="12427"/>
                </a:cubicBezTo>
                <a:cubicBezTo>
                  <a:pt x="22342" y="12298"/>
                  <a:pt x="22360" y="12179"/>
                  <a:pt x="22374" y="12055"/>
                </a:cubicBezTo>
                <a:cubicBezTo>
                  <a:pt x="22384" y="11967"/>
                  <a:pt x="22409" y="11854"/>
                  <a:pt x="22473" y="11782"/>
                </a:cubicBezTo>
                <a:cubicBezTo>
                  <a:pt x="22503" y="11749"/>
                  <a:pt x="22584" y="11683"/>
                  <a:pt x="22622" y="11658"/>
                </a:cubicBezTo>
                <a:cubicBezTo>
                  <a:pt x="22676" y="11621"/>
                  <a:pt x="22734" y="11633"/>
                  <a:pt x="22796" y="11633"/>
                </a:cubicBezTo>
              </a:path>
              <a:path w="4069" h="1688">
                <a:moveTo>
                  <a:pt x="22572" y="11956"/>
                </a:moveTo>
                <a:cubicBezTo>
                  <a:pt x="22614" y="11919"/>
                  <a:pt x="22691" y="11846"/>
                  <a:pt x="22746" y="11832"/>
                </a:cubicBezTo>
                <a:cubicBezTo>
                  <a:pt x="22797" y="11819"/>
                  <a:pt x="22832" y="11834"/>
                  <a:pt x="22870" y="11857"/>
                </a:cubicBezTo>
                <a:cubicBezTo>
                  <a:pt x="22859" y="11941"/>
                  <a:pt x="22810" y="12024"/>
                  <a:pt x="22746" y="12080"/>
                </a:cubicBezTo>
                <a:cubicBezTo>
                  <a:pt x="22690" y="12129"/>
                  <a:pt x="22633" y="12150"/>
                  <a:pt x="22647" y="12204"/>
                </a:cubicBezTo>
                <a:cubicBezTo>
                  <a:pt x="22738" y="12193"/>
                  <a:pt x="22776" y="12168"/>
                  <a:pt x="22870" y="12204"/>
                </a:cubicBezTo>
                <a:cubicBezTo>
                  <a:pt x="22977" y="12245"/>
                  <a:pt x="22937" y="12348"/>
                  <a:pt x="22895" y="12427"/>
                </a:cubicBezTo>
                <a:cubicBezTo>
                  <a:pt x="22852" y="12507"/>
                  <a:pt x="22761" y="12638"/>
                  <a:pt x="22696" y="12700"/>
                </a:cubicBezTo>
                <a:cubicBezTo>
                  <a:pt x="22647" y="12725"/>
                  <a:pt x="22630" y="12734"/>
                  <a:pt x="22597" y="12750"/>
                </a:cubicBezTo>
              </a:path>
              <a:path w="4069" h="1688">
                <a:moveTo>
                  <a:pt x="23192" y="11956"/>
                </a:moveTo>
                <a:cubicBezTo>
                  <a:pt x="23192" y="12046"/>
                  <a:pt x="23178" y="12122"/>
                  <a:pt x="23168" y="12204"/>
                </a:cubicBezTo>
                <a:cubicBezTo>
                  <a:pt x="23157" y="12288"/>
                  <a:pt x="23147" y="12370"/>
                  <a:pt x="23143" y="12452"/>
                </a:cubicBezTo>
                <a:cubicBezTo>
                  <a:pt x="23141" y="12500"/>
                  <a:pt x="23127" y="12531"/>
                  <a:pt x="23118" y="12576"/>
                </a:cubicBezTo>
              </a:path>
              <a:path w="4069" h="1688">
                <a:moveTo>
                  <a:pt x="23068" y="12278"/>
                </a:moveTo>
                <a:cubicBezTo>
                  <a:pt x="23161" y="12232"/>
                  <a:pt x="23254" y="12223"/>
                  <a:pt x="23341" y="12179"/>
                </a:cubicBezTo>
                <a:cubicBezTo>
                  <a:pt x="23364" y="12156"/>
                  <a:pt x="23368" y="12148"/>
                  <a:pt x="23391" y="12154"/>
                </a:cubicBezTo>
              </a:path>
              <a:path w="4069" h="1688">
                <a:moveTo>
                  <a:pt x="23614" y="11733"/>
                </a:moveTo>
                <a:cubicBezTo>
                  <a:pt x="23603" y="11818"/>
                  <a:pt x="23554" y="11890"/>
                  <a:pt x="23564" y="11981"/>
                </a:cubicBezTo>
                <a:cubicBezTo>
                  <a:pt x="23569" y="12026"/>
                  <a:pt x="23593" y="12158"/>
                  <a:pt x="23664" y="12179"/>
                </a:cubicBezTo>
                <a:cubicBezTo>
                  <a:pt x="23717" y="12194"/>
                  <a:pt x="23732" y="12160"/>
                  <a:pt x="23763" y="12129"/>
                </a:cubicBezTo>
              </a:path>
              <a:path w="4069" h="1688">
                <a:moveTo>
                  <a:pt x="23887" y="11683"/>
                </a:moveTo>
                <a:cubicBezTo>
                  <a:pt x="23843" y="11749"/>
                  <a:pt x="23827" y="11827"/>
                  <a:pt x="23812" y="11906"/>
                </a:cubicBezTo>
                <a:cubicBezTo>
                  <a:pt x="23787" y="12037"/>
                  <a:pt x="23763" y="12146"/>
                  <a:pt x="23763" y="12278"/>
                </a:cubicBezTo>
                <a:cubicBezTo>
                  <a:pt x="23763" y="12410"/>
                  <a:pt x="23763" y="12543"/>
                  <a:pt x="23763" y="126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Ink 20"/>
          <p:cNvSpPr/>
          <p:nvPr/>
        </p:nvSpPr>
        <p:spPr>
          <a:xfrm>
            <a:off x="750960" y="3902040"/>
            <a:ext cx="3697200" cy="1189080"/>
          </a:xfrm>
          <a:custGeom>
            <a:avLst/>
            <a:gdLst/>
            <a:ahLst/>
            <a:rect l="l" t="t" r="r" b="b"/>
            <a:pathLst>
              <a:path w="10270" h="3300">
                <a:moveTo>
                  <a:pt x="2183" y="11162"/>
                </a:moveTo>
                <a:cubicBezTo>
                  <a:pt x="2206" y="11245"/>
                  <a:pt x="2215" y="11327"/>
                  <a:pt x="2232" y="11410"/>
                </a:cubicBezTo>
                <a:cubicBezTo>
                  <a:pt x="2249" y="11492"/>
                  <a:pt x="2257" y="11742"/>
                  <a:pt x="2257" y="11658"/>
                </a:cubicBezTo>
                <a:cubicBezTo>
                  <a:pt x="2257" y="11499"/>
                  <a:pt x="2261" y="11331"/>
                  <a:pt x="2232" y="11187"/>
                </a:cubicBezTo>
                <a:cubicBezTo>
                  <a:pt x="2218" y="11117"/>
                  <a:pt x="2215" y="10966"/>
                  <a:pt x="2257" y="10914"/>
                </a:cubicBezTo>
                <a:cubicBezTo>
                  <a:pt x="2304" y="10855"/>
                  <a:pt x="2364" y="10864"/>
                  <a:pt x="2431" y="10864"/>
                </a:cubicBezTo>
                <a:cubicBezTo>
                  <a:pt x="2515" y="10864"/>
                  <a:pt x="2588" y="10840"/>
                  <a:pt x="2679" y="10840"/>
                </a:cubicBezTo>
                <a:cubicBezTo>
                  <a:pt x="2696" y="10840"/>
                  <a:pt x="2712" y="10840"/>
                  <a:pt x="2729" y="10840"/>
                </a:cubicBezTo>
              </a:path>
              <a:path w="10270" h="3300">
                <a:moveTo>
                  <a:pt x="2505" y="11063"/>
                </a:moveTo>
                <a:cubicBezTo>
                  <a:pt x="2505" y="11079"/>
                  <a:pt x="2505" y="11096"/>
                  <a:pt x="2505" y="11112"/>
                </a:cubicBezTo>
                <a:cubicBezTo>
                  <a:pt x="2552" y="11066"/>
                  <a:pt x="2609" y="11038"/>
                  <a:pt x="2679" y="11063"/>
                </a:cubicBezTo>
                <a:cubicBezTo>
                  <a:pt x="2731" y="11082"/>
                  <a:pt x="2746" y="11167"/>
                  <a:pt x="2729" y="11212"/>
                </a:cubicBezTo>
                <a:cubicBezTo>
                  <a:pt x="2704" y="11277"/>
                  <a:pt x="2623" y="11289"/>
                  <a:pt x="2580" y="11311"/>
                </a:cubicBezTo>
                <a:cubicBezTo>
                  <a:pt x="2572" y="11319"/>
                  <a:pt x="2563" y="11328"/>
                  <a:pt x="2555" y="11336"/>
                </a:cubicBezTo>
                <a:cubicBezTo>
                  <a:pt x="2636" y="11336"/>
                  <a:pt x="2662" y="11345"/>
                  <a:pt x="2729" y="11385"/>
                </a:cubicBezTo>
                <a:cubicBezTo>
                  <a:pt x="2803" y="11429"/>
                  <a:pt x="2828" y="11479"/>
                  <a:pt x="2778" y="11559"/>
                </a:cubicBezTo>
                <a:cubicBezTo>
                  <a:pt x="2747" y="11610"/>
                  <a:pt x="2655" y="11626"/>
                  <a:pt x="2604" y="11633"/>
                </a:cubicBezTo>
              </a:path>
              <a:path w="10270" h="3300">
                <a:moveTo>
                  <a:pt x="2084" y="11807"/>
                </a:moveTo>
                <a:cubicBezTo>
                  <a:pt x="2415" y="11807"/>
                  <a:pt x="2745" y="11807"/>
                  <a:pt x="3076" y="11807"/>
                </a:cubicBezTo>
              </a:path>
              <a:path w="10270" h="3300">
                <a:moveTo>
                  <a:pt x="2381" y="12229"/>
                </a:moveTo>
                <a:cubicBezTo>
                  <a:pt x="2445" y="12220"/>
                  <a:pt x="2484" y="12204"/>
                  <a:pt x="2555" y="12204"/>
                </a:cubicBezTo>
                <a:cubicBezTo>
                  <a:pt x="2626" y="12204"/>
                  <a:pt x="2656" y="12231"/>
                  <a:pt x="2704" y="12278"/>
                </a:cubicBezTo>
                <a:cubicBezTo>
                  <a:pt x="2747" y="12321"/>
                  <a:pt x="2698" y="12374"/>
                  <a:pt x="2654" y="12402"/>
                </a:cubicBezTo>
                <a:cubicBezTo>
                  <a:pt x="2608" y="12431"/>
                  <a:pt x="2554" y="12453"/>
                  <a:pt x="2505" y="12477"/>
                </a:cubicBezTo>
                <a:cubicBezTo>
                  <a:pt x="2580" y="12477"/>
                  <a:pt x="2601" y="12474"/>
                  <a:pt x="2654" y="12526"/>
                </a:cubicBezTo>
                <a:cubicBezTo>
                  <a:pt x="2703" y="12575"/>
                  <a:pt x="2765" y="12678"/>
                  <a:pt x="2778" y="12750"/>
                </a:cubicBezTo>
                <a:cubicBezTo>
                  <a:pt x="2788" y="12810"/>
                  <a:pt x="2789" y="12902"/>
                  <a:pt x="2753" y="12948"/>
                </a:cubicBezTo>
                <a:cubicBezTo>
                  <a:pt x="2706" y="13008"/>
                  <a:pt x="2609" y="12946"/>
                  <a:pt x="2555" y="12923"/>
                </a:cubicBezTo>
                <a:cubicBezTo>
                  <a:pt x="2496" y="12897"/>
                  <a:pt x="2432" y="12862"/>
                  <a:pt x="2381" y="12824"/>
                </a:cubicBezTo>
                <a:cubicBezTo>
                  <a:pt x="2319" y="12778"/>
                  <a:pt x="2313" y="12765"/>
                  <a:pt x="2332" y="12700"/>
                </a:cubicBezTo>
              </a:path>
              <a:path w="10270" h="3300">
                <a:moveTo>
                  <a:pt x="3398" y="11708"/>
                </a:moveTo>
                <a:cubicBezTo>
                  <a:pt x="3444" y="11784"/>
                  <a:pt x="3423" y="11888"/>
                  <a:pt x="3423" y="11981"/>
                </a:cubicBezTo>
                <a:cubicBezTo>
                  <a:pt x="3423" y="12072"/>
                  <a:pt x="3432" y="12152"/>
                  <a:pt x="3448" y="12229"/>
                </a:cubicBezTo>
                <a:cubicBezTo>
                  <a:pt x="3448" y="12245"/>
                  <a:pt x="3448" y="12262"/>
                  <a:pt x="3448" y="12278"/>
                </a:cubicBezTo>
              </a:path>
              <a:path w="10270" h="3300">
                <a:moveTo>
                  <a:pt x="3225" y="11981"/>
                </a:moveTo>
                <a:cubicBezTo>
                  <a:pt x="3354" y="11981"/>
                  <a:pt x="3475" y="11986"/>
                  <a:pt x="3597" y="12005"/>
                </a:cubicBezTo>
                <a:cubicBezTo>
                  <a:pt x="3646" y="12005"/>
                  <a:pt x="3663" y="12005"/>
                  <a:pt x="3696" y="12005"/>
                </a:cubicBezTo>
              </a:path>
              <a:path w="10270" h="3300">
                <a:moveTo>
                  <a:pt x="4266" y="11162"/>
                </a:moveTo>
                <a:cubicBezTo>
                  <a:pt x="4275" y="11226"/>
                  <a:pt x="4291" y="11265"/>
                  <a:pt x="4291" y="11336"/>
                </a:cubicBezTo>
                <a:cubicBezTo>
                  <a:pt x="4291" y="11421"/>
                  <a:pt x="4283" y="11487"/>
                  <a:pt x="4291" y="11559"/>
                </a:cubicBezTo>
                <a:cubicBezTo>
                  <a:pt x="4301" y="11653"/>
                  <a:pt x="4299" y="11749"/>
                  <a:pt x="4316" y="11832"/>
                </a:cubicBezTo>
                <a:cubicBezTo>
                  <a:pt x="4316" y="11848"/>
                  <a:pt x="4316" y="11865"/>
                  <a:pt x="4316" y="11881"/>
                </a:cubicBezTo>
              </a:path>
              <a:path w="10270" h="3300">
                <a:moveTo>
                  <a:pt x="4043" y="12055"/>
                </a:moveTo>
                <a:cubicBezTo>
                  <a:pt x="4106" y="12055"/>
                  <a:pt x="4168" y="12036"/>
                  <a:pt x="4217" y="12030"/>
                </a:cubicBezTo>
                <a:cubicBezTo>
                  <a:pt x="4351" y="12014"/>
                  <a:pt x="4492" y="12030"/>
                  <a:pt x="4614" y="12005"/>
                </a:cubicBezTo>
                <a:cubicBezTo>
                  <a:pt x="4630" y="12005"/>
                  <a:pt x="4647" y="12005"/>
                  <a:pt x="4663" y="12005"/>
                </a:cubicBezTo>
              </a:path>
              <a:path w="10270" h="3300">
                <a:moveTo>
                  <a:pt x="4266" y="12328"/>
                </a:moveTo>
                <a:cubicBezTo>
                  <a:pt x="4306" y="12305"/>
                  <a:pt x="4393" y="12226"/>
                  <a:pt x="4440" y="12229"/>
                </a:cubicBezTo>
                <a:cubicBezTo>
                  <a:pt x="4499" y="12232"/>
                  <a:pt x="4574" y="12262"/>
                  <a:pt x="4589" y="12328"/>
                </a:cubicBezTo>
                <a:cubicBezTo>
                  <a:pt x="4604" y="12390"/>
                  <a:pt x="4552" y="12459"/>
                  <a:pt x="4514" y="12502"/>
                </a:cubicBezTo>
                <a:cubicBezTo>
                  <a:pt x="4486" y="12533"/>
                  <a:pt x="4448" y="12550"/>
                  <a:pt x="4415" y="12576"/>
                </a:cubicBezTo>
                <a:cubicBezTo>
                  <a:pt x="4504" y="12576"/>
                  <a:pt x="4541" y="12569"/>
                  <a:pt x="4589" y="12650"/>
                </a:cubicBezTo>
                <a:cubicBezTo>
                  <a:pt x="4625" y="12710"/>
                  <a:pt x="4665" y="12863"/>
                  <a:pt x="4663" y="12923"/>
                </a:cubicBezTo>
                <a:cubicBezTo>
                  <a:pt x="4662" y="12955"/>
                  <a:pt x="4602" y="13061"/>
                  <a:pt x="4564" y="13072"/>
                </a:cubicBezTo>
                <a:cubicBezTo>
                  <a:pt x="4496" y="13091"/>
                  <a:pt x="4402" y="13074"/>
                  <a:pt x="4341" y="13047"/>
                </a:cubicBezTo>
                <a:cubicBezTo>
                  <a:pt x="4291" y="13022"/>
                  <a:pt x="4275" y="13014"/>
                  <a:pt x="4242" y="12998"/>
                </a:cubicBezTo>
              </a:path>
              <a:path w="10270" h="3300">
                <a:moveTo>
                  <a:pt x="5159" y="11956"/>
                </a:moveTo>
                <a:cubicBezTo>
                  <a:pt x="5178" y="12048"/>
                  <a:pt x="5204" y="12139"/>
                  <a:pt x="5209" y="12229"/>
                </a:cubicBezTo>
                <a:cubicBezTo>
                  <a:pt x="5213" y="12298"/>
                  <a:pt x="5230" y="12340"/>
                  <a:pt x="5234" y="12402"/>
                </a:cubicBezTo>
                <a:cubicBezTo>
                  <a:pt x="5234" y="12444"/>
                  <a:pt x="5234" y="12452"/>
                  <a:pt x="5234" y="12477"/>
                </a:cubicBezTo>
              </a:path>
              <a:path w="10270" h="3300">
                <a:moveTo>
                  <a:pt x="4961" y="12154"/>
                </a:moveTo>
                <a:cubicBezTo>
                  <a:pt x="5036" y="12126"/>
                  <a:pt x="5105" y="12131"/>
                  <a:pt x="5184" y="12154"/>
                </a:cubicBezTo>
                <a:cubicBezTo>
                  <a:pt x="5248" y="12172"/>
                  <a:pt x="5289" y="12179"/>
                  <a:pt x="5358" y="12179"/>
                </a:cubicBezTo>
              </a:path>
              <a:path w="10270" h="3300">
                <a:moveTo>
                  <a:pt x="5879" y="11832"/>
                </a:moveTo>
                <a:cubicBezTo>
                  <a:pt x="5903" y="11920"/>
                  <a:pt x="5904" y="11988"/>
                  <a:pt x="5904" y="12080"/>
                </a:cubicBezTo>
                <a:cubicBezTo>
                  <a:pt x="5904" y="12193"/>
                  <a:pt x="5916" y="12293"/>
                  <a:pt x="5928" y="12402"/>
                </a:cubicBezTo>
                <a:cubicBezTo>
                  <a:pt x="5948" y="12587"/>
                  <a:pt x="5928" y="12786"/>
                  <a:pt x="5928" y="12973"/>
                </a:cubicBezTo>
              </a:path>
              <a:path w="10270" h="3300">
                <a:moveTo>
                  <a:pt x="6598" y="12005"/>
                </a:moveTo>
                <a:cubicBezTo>
                  <a:pt x="6598" y="12110"/>
                  <a:pt x="6619" y="12178"/>
                  <a:pt x="6623" y="12278"/>
                </a:cubicBezTo>
                <a:cubicBezTo>
                  <a:pt x="6626" y="12351"/>
                  <a:pt x="6636" y="12417"/>
                  <a:pt x="6648" y="12477"/>
                </a:cubicBezTo>
                <a:cubicBezTo>
                  <a:pt x="6648" y="12518"/>
                  <a:pt x="6648" y="12526"/>
                  <a:pt x="6648" y="12551"/>
                </a:cubicBezTo>
              </a:path>
              <a:path w="10270" h="3300">
                <a:moveTo>
                  <a:pt x="6424" y="12204"/>
                </a:moveTo>
                <a:cubicBezTo>
                  <a:pt x="6529" y="12209"/>
                  <a:pt x="6619" y="12219"/>
                  <a:pt x="6722" y="12229"/>
                </a:cubicBezTo>
              </a:path>
              <a:path w="10270" h="3300">
                <a:moveTo>
                  <a:pt x="7094" y="11782"/>
                </a:moveTo>
                <a:cubicBezTo>
                  <a:pt x="7094" y="11865"/>
                  <a:pt x="7105" y="11938"/>
                  <a:pt x="7119" y="12005"/>
                </a:cubicBezTo>
                <a:cubicBezTo>
                  <a:pt x="7130" y="12061"/>
                  <a:pt x="7134" y="12132"/>
                  <a:pt x="7144" y="12179"/>
                </a:cubicBezTo>
                <a:cubicBezTo>
                  <a:pt x="7144" y="12224"/>
                  <a:pt x="7141" y="12244"/>
                  <a:pt x="7169" y="12204"/>
                </a:cubicBezTo>
                <a:cubicBezTo>
                  <a:pt x="7142" y="12140"/>
                  <a:pt x="7144" y="12101"/>
                  <a:pt x="7144" y="12030"/>
                </a:cubicBezTo>
                <a:cubicBezTo>
                  <a:pt x="7144" y="11949"/>
                  <a:pt x="7119" y="11889"/>
                  <a:pt x="7119" y="11807"/>
                </a:cubicBezTo>
                <a:cubicBezTo>
                  <a:pt x="7119" y="11722"/>
                  <a:pt x="7113" y="11623"/>
                  <a:pt x="7119" y="11559"/>
                </a:cubicBezTo>
                <a:cubicBezTo>
                  <a:pt x="7133" y="11412"/>
                  <a:pt x="7167" y="11390"/>
                  <a:pt x="7317" y="11385"/>
                </a:cubicBezTo>
                <a:cubicBezTo>
                  <a:pt x="7406" y="11382"/>
                  <a:pt x="7478" y="11404"/>
                  <a:pt x="7565" y="11410"/>
                </a:cubicBezTo>
                <a:cubicBezTo>
                  <a:pt x="7573" y="11410"/>
                  <a:pt x="7582" y="11410"/>
                  <a:pt x="7590" y="11410"/>
                </a:cubicBezTo>
              </a:path>
              <a:path w="10270" h="3300">
                <a:moveTo>
                  <a:pt x="7417" y="11683"/>
                </a:moveTo>
                <a:cubicBezTo>
                  <a:pt x="7389" y="11737"/>
                  <a:pt x="7472" y="11664"/>
                  <a:pt x="7541" y="11683"/>
                </a:cubicBezTo>
                <a:cubicBezTo>
                  <a:pt x="7589" y="11697"/>
                  <a:pt x="7659" y="11749"/>
                  <a:pt x="7640" y="11807"/>
                </a:cubicBezTo>
                <a:cubicBezTo>
                  <a:pt x="7629" y="11841"/>
                  <a:pt x="7574" y="11909"/>
                  <a:pt x="7541" y="11931"/>
                </a:cubicBezTo>
                <a:cubicBezTo>
                  <a:pt x="7508" y="11952"/>
                  <a:pt x="7432" y="12024"/>
                  <a:pt x="7466" y="11956"/>
                </a:cubicBezTo>
                <a:cubicBezTo>
                  <a:pt x="7525" y="11963"/>
                  <a:pt x="7594" y="11969"/>
                  <a:pt x="7640" y="12005"/>
                </a:cubicBezTo>
                <a:cubicBezTo>
                  <a:pt x="7691" y="12045"/>
                  <a:pt x="7736" y="12145"/>
                  <a:pt x="7739" y="12204"/>
                </a:cubicBezTo>
                <a:cubicBezTo>
                  <a:pt x="7744" y="12282"/>
                  <a:pt x="7683" y="12292"/>
                  <a:pt x="7615" y="12303"/>
                </a:cubicBezTo>
                <a:cubicBezTo>
                  <a:pt x="7561" y="12312"/>
                  <a:pt x="7496" y="12303"/>
                  <a:pt x="7441" y="12303"/>
                </a:cubicBezTo>
              </a:path>
              <a:path w="10270" h="3300">
                <a:moveTo>
                  <a:pt x="7069" y="12452"/>
                </a:moveTo>
                <a:cubicBezTo>
                  <a:pt x="7150" y="12474"/>
                  <a:pt x="7209" y="12477"/>
                  <a:pt x="7293" y="12477"/>
                </a:cubicBezTo>
                <a:cubicBezTo>
                  <a:pt x="7372" y="12477"/>
                  <a:pt x="7444" y="12494"/>
                  <a:pt x="7516" y="12502"/>
                </a:cubicBezTo>
                <a:cubicBezTo>
                  <a:pt x="7612" y="12512"/>
                  <a:pt x="7716" y="12502"/>
                  <a:pt x="7813" y="12502"/>
                </a:cubicBezTo>
              </a:path>
              <a:path w="10270" h="3300">
                <a:moveTo>
                  <a:pt x="7417" y="12750"/>
                </a:moveTo>
                <a:cubicBezTo>
                  <a:pt x="7479" y="12742"/>
                  <a:pt x="7549" y="12707"/>
                  <a:pt x="7615" y="12725"/>
                </a:cubicBezTo>
                <a:cubicBezTo>
                  <a:pt x="7683" y="12744"/>
                  <a:pt x="7725" y="12814"/>
                  <a:pt x="7665" y="12874"/>
                </a:cubicBezTo>
                <a:cubicBezTo>
                  <a:pt x="7621" y="12918"/>
                  <a:pt x="7543" y="12937"/>
                  <a:pt x="7491" y="12973"/>
                </a:cubicBezTo>
                <a:cubicBezTo>
                  <a:pt x="7483" y="12981"/>
                  <a:pt x="7474" y="12990"/>
                  <a:pt x="7466" y="12998"/>
                </a:cubicBezTo>
                <a:cubicBezTo>
                  <a:pt x="7530" y="12998"/>
                  <a:pt x="7616" y="12994"/>
                  <a:pt x="7665" y="13047"/>
                </a:cubicBezTo>
                <a:cubicBezTo>
                  <a:pt x="7722" y="13109"/>
                  <a:pt x="7714" y="13195"/>
                  <a:pt x="7714" y="13271"/>
                </a:cubicBezTo>
                <a:cubicBezTo>
                  <a:pt x="7714" y="13320"/>
                  <a:pt x="7693" y="13464"/>
                  <a:pt x="7640" y="13494"/>
                </a:cubicBezTo>
                <a:cubicBezTo>
                  <a:pt x="7598" y="13518"/>
                  <a:pt x="7511" y="13515"/>
                  <a:pt x="7466" y="13494"/>
                </a:cubicBezTo>
                <a:cubicBezTo>
                  <a:pt x="7422" y="13474"/>
                  <a:pt x="7377" y="13430"/>
                  <a:pt x="7342" y="13395"/>
                </a:cubicBezTo>
                <a:cubicBezTo>
                  <a:pt x="7320" y="13373"/>
                  <a:pt x="7315" y="13364"/>
                  <a:pt x="7293" y="13370"/>
                </a:cubicBezTo>
              </a:path>
              <a:path w="10270" h="3300">
                <a:moveTo>
                  <a:pt x="8310" y="13767"/>
                </a:moveTo>
                <a:cubicBezTo>
                  <a:pt x="8367" y="13745"/>
                  <a:pt x="8444" y="13724"/>
                  <a:pt x="8508" y="13742"/>
                </a:cubicBezTo>
                <a:cubicBezTo>
                  <a:pt x="8577" y="13761"/>
                  <a:pt x="8660" y="13782"/>
                  <a:pt x="8731" y="13791"/>
                </a:cubicBezTo>
                <a:cubicBezTo>
                  <a:pt x="8806" y="13800"/>
                  <a:pt x="8878" y="13816"/>
                  <a:pt x="8954" y="13816"/>
                </a:cubicBezTo>
              </a:path>
              <a:path w="10270" h="3300">
                <a:moveTo>
                  <a:pt x="8434" y="14064"/>
                </a:moveTo>
                <a:cubicBezTo>
                  <a:pt x="8538" y="14064"/>
                  <a:pt x="8635" y="14076"/>
                  <a:pt x="8731" y="14089"/>
                </a:cubicBezTo>
                <a:cubicBezTo>
                  <a:pt x="8809" y="14099"/>
                  <a:pt x="8906" y="14082"/>
                  <a:pt x="8979" y="14114"/>
                </a:cubicBezTo>
                <a:cubicBezTo>
                  <a:pt x="9002" y="14137"/>
                  <a:pt x="9010" y="14148"/>
                  <a:pt x="9004" y="14114"/>
                </a:cubicBezTo>
              </a:path>
              <a:path w="10270" h="3300">
                <a:moveTo>
                  <a:pt x="9723" y="11609"/>
                </a:moveTo>
                <a:cubicBezTo>
                  <a:pt x="9769" y="11572"/>
                  <a:pt x="9833" y="11534"/>
                  <a:pt x="9897" y="11559"/>
                </a:cubicBezTo>
                <a:cubicBezTo>
                  <a:pt x="9945" y="11578"/>
                  <a:pt x="9999" y="11667"/>
                  <a:pt x="10021" y="11708"/>
                </a:cubicBezTo>
                <a:cubicBezTo>
                  <a:pt x="10057" y="11775"/>
                  <a:pt x="10067" y="11856"/>
                  <a:pt x="10071" y="11931"/>
                </a:cubicBezTo>
                <a:cubicBezTo>
                  <a:pt x="10075" y="12019"/>
                  <a:pt x="10071" y="12106"/>
                  <a:pt x="10021" y="12179"/>
                </a:cubicBezTo>
                <a:cubicBezTo>
                  <a:pt x="10013" y="12190"/>
                  <a:pt x="9908" y="12279"/>
                  <a:pt x="9897" y="12278"/>
                </a:cubicBezTo>
                <a:cubicBezTo>
                  <a:pt x="9857" y="12275"/>
                  <a:pt x="9737" y="12228"/>
                  <a:pt x="9723" y="12179"/>
                </a:cubicBezTo>
                <a:cubicBezTo>
                  <a:pt x="9701" y="12100"/>
                  <a:pt x="9723" y="12039"/>
                  <a:pt x="9798" y="12030"/>
                </a:cubicBezTo>
                <a:cubicBezTo>
                  <a:pt x="9857" y="12023"/>
                  <a:pt x="9915" y="12055"/>
                  <a:pt x="9947" y="12105"/>
                </a:cubicBezTo>
                <a:cubicBezTo>
                  <a:pt x="9971" y="12143"/>
                  <a:pt x="10035" y="12215"/>
                  <a:pt x="10046" y="12254"/>
                </a:cubicBezTo>
                <a:cubicBezTo>
                  <a:pt x="10061" y="12308"/>
                  <a:pt x="10059" y="12353"/>
                  <a:pt x="10096" y="12378"/>
                </a:cubicBezTo>
              </a:path>
              <a:path w="10270" h="3300">
                <a:moveTo>
                  <a:pt x="10220" y="11807"/>
                </a:moveTo>
                <a:cubicBezTo>
                  <a:pt x="10245" y="11902"/>
                  <a:pt x="10264" y="12008"/>
                  <a:pt x="10269" y="12105"/>
                </a:cubicBezTo>
                <a:cubicBezTo>
                  <a:pt x="10272" y="12161"/>
                  <a:pt x="10286" y="12174"/>
                  <a:pt x="10294" y="12229"/>
                </a:cubicBezTo>
                <a:cubicBezTo>
                  <a:pt x="10294" y="12100"/>
                  <a:pt x="10257" y="11923"/>
                  <a:pt x="10269" y="11807"/>
                </a:cubicBezTo>
                <a:cubicBezTo>
                  <a:pt x="10275" y="11751"/>
                  <a:pt x="10283" y="11668"/>
                  <a:pt x="10294" y="11609"/>
                </a:cubicBezTo>
                <a:cubicBezTo>
                  <a:pt x="10301" y="11568"/>
                  <a:pt x="10332" y="11453"/>
                  <a:pt x="10393" y="11435"/>
                </a:cubicBezTo>
                <a:cubicBezTo>
                  <a:pt x="10440" y="11422"/>
                  <a:pt x="10493" y="11416"/>
                  <a:pt x="10542" y="11410"/>
                </a:cubicBezTo>
              </a:path>
              <a:path w="10270" h="3300">
                <a:moveTo>
                  <a:pt x="10443" y="11683"/>
                </a:moveTo>
                <a:cubicBezTo>
                  <a:pt x="10532" y="11658"/>
                  <a:pt x="10581" y="11645"/>
                  <a:pt x="10666" y="11683"/>
                </a:cubicBezTo>
                <a:cubicBezTo>
                  <a:pt x="10735" y="11714"/>
                  <a:pt x="10735" y="11777"/>
                  <a:pt x="10691" y="11832"/>
                </a:cubicBezTo>
                <a:cubicBezTo>
                  <a:pt x="10655" y="11876"/>
                  <a:pt x="10607" y="11915"/>
                  <a:pt x="10567" y="11956"/>
                </a:cubicBezTo>
                <a:cubicBezTo>
                  <a:pt x="10634" y="11915"/>
                  <a:pt x="10648" y="11923"/>
                  <a:pt x="10716" y="11931"/>
                </a:cubicBezTo>
                <a:cubicBezTo>
                  <a:pt x="10754" y="11936"/>
                  <a:pt x="10825" y="11955"/>
                  <a:pt x="10840" y="12005"/>
                </a:cubicBezTo>
                <a:cubicBezTo>
                  <a:pt x="10857" y="12063"/>
                  <a:pt x="10850" y="12160"/>
                  <a:pt x="10815" y="12204"/>
                </a:cubicBezTo>
                <a:cubicBezTo>
                  <a:pt x="10766" y="12265"/>
                  <a:pt x="10697" y="12214"/>
                  <a:pt x="10641" y="12204"/>
                </a:cubicBezTo>
                <a:cubicBezTo>
                  <a:pt x="10581" y="12194"/>
                  <a:pt x="10544" y="12183"/>
                  <a:pt x="10517" y="12129"/>
                </a:cubicBezTo>
              </a:path>
              <a:path w="10270" h="3300">
                <a:moveTo>
                  <a:pt x="11410" y="11633"/>
                </a:moveTo>
                <a:cubicBezTo>
                  <a:pt x="11410" y="11715"/>
                  <a:pt x="11388" y="11780"/>
                  <a:pt x="11385" y="11857"/>
                </a:cubicBezTo>
                <a:cubicBezTo>
                  <a:pt x="11381" y="11943"/>
                  <a:pt x="11391" y="12001"/>
                  <a:pt x="11410" y="12080"/>
                </a:cubicBezTo>
                <a:cubicBezTo>
                  <a:pt x="11429" y="12157"/>
                  <a:pt x="11427" y="12282"/>
                  <a:pt x="11460" y="12353"/>
                </a:cubicBezTo>
                <a:cubicBezTo>
                  <a:pt x="11468" y="12361"/>
                  <a:pt x="11477" y="12370"/>
                  <a:pt x="11485" y="12378"/>
                </a:cubicBezTo>
              </a:path>
              <a:path w="10270" h="3300">
                <a:moveTo>
                  <a:pt x="11261" y="11981"/>
                </a:moveTo>
                <a:cubicBezTo>
                  <a:pt x="11389" y="11954"/>
                  <a:pt x="11479" y="11972"/>
                  <a:pt x="11609" y="11981"/>
                </a:cubicBezTo>
              </a:path>
              <a:path w="10270" h="3300">
                <a:moveTo>
                  <a:pt x="11931" y="11733"/>
                </a:moveTo>
                <a:cubicBezTo>
                  <a:pt x="11882" y="11802"/>
                  <a:pt x="11838" y="11842"/>
                  <a:pt x="11857" y="11931"/>
                </a:cubicBezTo>
                <a:cubicBezTo>
                  <a:pt x="11875" y="12015"/>
                  <a:pt x="11910" y="12042"/>
                  <a:pt x="11981" y="12080"/>
                </a:cubicBezTo>
                <a:cubicBezTo>
                  <a:pt x="12037" y="12110"/>
                  <a:pt x="12112" y="12154"/>
                  <a:pt x="12179" y="12129"/>
                </a:cubicBezTo>
                <a:cubicBezTo>
                  <a:pt x="12187" y="12121"/>
                  <a:pt x="12196" y="12113"/>
                  <a:pt x="12204" y="12105"/>
                </a:cubicBezTo>
              </a:path>
              <a:path w="10270" h="3300">
                <a:moveTo>
                  <a:pt x="12303" y="11609"/>
                </a:moveTo>
                <a:cubicBezTo>
                  <a:pt x="12265" y="11703"/>
                  <a:pt x="12235" y="11802"/>
                  <a:pt x="12254" y="11906"/>
                </a:cubicBezTo>
                <a:cubicBezTo>
                  <a:pt x="12271" y="12003"/>
                  <a:pt x="12282" y="12109"/>
                  <a:pt x="12303" y="12204"/>
                </a:cubicBezTo>
                <a:cubicBezTo>
                  <a:pt x="12328" y="12319"/>
                  <a:pt x="12346" y="12407"/>
                  <a:pt x="12353" y="12526"/>
                </a:cubicBezTo>
              </a:path>
              <a:path w="10270" h="3300">
                <a:moveTo>
                  <a:pt x="10071" y="12601"/>
                </a:moveTo>
                <a:cubicBezTo>
                  <a:pt x="10126" y="12568"/>
                  <a:pt x="10199" y="12554"/>
                  <a:pt x="10269" y="12551"/>
                </a:cubicBezTo>
                <a:cubicBezTo>
                  <a:pt x="10756" y="12531"/>
                  <a:pt x="11743" y="12775"/>
                  <a:pt x="12154" y="12526"/>
                </a:cubicBezTo>
                <a:cubicBezTo>
                  <a:pt x="12177" y="12504"/>
                  <a:pt x="12185" y="12499"/>
                  <a:pt x="12179" y="12477"/>
                </a:cubicBezTo>
              </a:path>
              <a:path w="10270" h="3300">
                <a:moveTo>
                  <a:pt x="11212" y="12799"/>
                </a:moveTo>
                <a:cubicBezTo>
                  <a:pt x="11191" y="12862"/>
                  <a:pt x="11253" y="12802"/>
                  <a:pt x="11311" y="12799"/>
                </a:cubicBezTo>
                <a:cubicBezTo>
                  <a:pt x="11385" y="12795"/>
                  <a:pt x="11445" y="12842"/>
                  <a:pt x="11509" y="12874"/>
                </a:cubicBezTo>
                <a:cubicBezTo>
                  <a:pt x="11603" y="12920"/>
                  <a:pt x="11642" y="12997"/>
                  <a:pt x="11584" y="13097"/>
                </a:cubicBezTo>
                <a:cubicBezTo>
                  <a:pt x="11573" y="13116"/>
                  <a:pt x="11462" y="13163"/>
                  <a:pt x="11435" y="13171"/>
                </a:cubicBezTo>
                <a:cubicBezTo>
                  <a:pt x="11336" y="13191"/>
                  <a:pt x="11320" y="13199"/>
                  <a:pt x="11261" y="13196"/>
                </a:cubicBezTo>
                <a:cubicBezTo>
                  <a:pt x="11389" y="13196"/>
                  <a:pt x="11364" y="13204"/>
                  <a:pt x="11460" y="13271"/>
                </a:cubicBezTo>
                <a:cubicBezTo>
                  <a:pt x="11551" y="13335"/>
                  <a:pt x="11566" y="13366"/>
                  <a:pt x="11609" y="13469"/>
                </a:cubicBezTo>
                <a:cubicBezTo>
                  <a:pt x="11640" y="13542"/>
                  <a:pt x="11654" y="13624"/>
                  <a:pt x="11609" y="13692"/>
                </a:cubicBezTo>
                <a:cubicBezTo>
                  <a:pt x="11565" y="13758"/>
                  <a:pt x="11486" y="13698"/>
                  <a:pt x="11435" y="13692"/>
                </a:cubicBezTo>
                <a:cubicBezTo>
                  <a:pt x="11332" y="13681"/>
                  <a:pt x="11278" y="13671"/>
                  <a:pt x="11187" y="13618"/>
                </a:cubicBezTo>
                <a:cubicBezTo>
                  <a:pt x="11146" y="13593"/>
                  <a:pt x="11104" y="13568"/>
                  <a:pt x="11063" y="135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Ink 21"/>
          <p:cNvSpPr/>
          <p:nvPr/>
        </p:nvSpPr>
        <p:spPr>
          <a:xfrm>
            <a:off x="5340240" y="4286160"/>
            <a:ext cx="3214800" cy="1751040"/>
          </a:xfrm>
          <a:custGeom>
            <a:avLst/>
            <a:gdLst/>
            <a:ahLst/>
            <a:rect l="l" t="t" r="r" b="b"/>
            <a:pathLst>
              <a:path w="8931" h="4863">
                <a:moveTo>
                  <a:pt x="14833" y="13841"/>
                </a:moveTo>
                <a:cubicBezTo>
                  <a:pt x="14900" y="13819"/>
                  <a:pt x="14965" y="13782"/>
                  <a:pt x="15032" y="13767"/>
                </a:cubicBezTo>
                <a:cubicBezTo>
                  <a:pt x="15075" y="13757"/>
                  <a:pt x="15136" y="13767"/>
                  <a:pt x="15180" y="13767"/>
                </a:cubicBezTo>
              </a:path>
              <a:path w="8931" h="4863">
                <a:moveTo>
                  <a:pt x="14908" y="14064"/>
                </a:moveTo>
                <a:cubicBezTo>
                  <a:pt x="15078" y="14030"/>
                  <a:pt x="15092" y="13995"/>
                  <a:pt x="15205" y="14064"/>
                </a:cubicBezTo>
              </a:path>
              <a:path w="8931" h="4863">
                <a:moveTo>
                  <a:pt x="15825" y="13072"/>
                </a:moveTo>
                <a:cubicBezTo>
                  <a:pt x="15767" y="13315"/>
                  <a:pt x="15701" y="13568"/>
                  <a:pt x="15677" y="13816"/>
                </a:cubicBezTo>
                <a:cubicBezTo>
                  <a:pt x="15663" y="13955"/>
                  <a:pt x="15671" y="14100"/>
                  <a:pt x="15652" y="14238"/>
                </a:cubicBezTo>
                <a:cubicBezTo>
                  <a:pt x="15633" y="14370"/>
                  <a:pt x="15638" y="14455"/>
                  <a:pt x="15652" y="14585"/>
                </a:cubicBezTo>
                <a:cubicBezTo>
                  <a:pt x="15662" y="14675"/>
                  <a:pt x="15668" y="14773"/>
                  <a:pt x="15677" y="14858"/>
                </a:cubicBezTo>
                <a:cubicBezTo>
                  <a:pt x="15686" y="14945"/>
                  <a:pt x="15671" y="15050"/>
                  <a:pt x="15701" y="15131"/>
                </a:cubicBezTo>
                <a:cubicBezTo>
                  <a:pt x="15709" y="15139"/>
                  <a:pt x="15718" y="15148"/>
                  <a:pt x="15726" y="15156"/>
                </a:cubicBezTo>
              </a:path>
              <a:path w="8931" h="4863">
                <a:moveTo>
                  <a:pt x="16371" y="12601"/>
                </a:moveTo>
                <a:cubicBezTo>
                  <a:pt x="16380" y="12528"/>
                  <a:pt x="16395" y="12504"/>
                  <a:pt x="16446" y="12452"/>
                </a:cubicBezTo>
                <a:cubicBezTo>
                  <a:pt x="16454" y="12444"/>
                  <a:pt x="16462" y="12435"/>
                  <a:pt x="16470" y="12427"/>
                </a:cubicBezTo>
                <a:cubicBezTo>
                  <a:pt x="16534" y="12491"/>
                  <a:pt x="16561" y="12553"/>
                  <a:pt x="16545" y="12650"/>
                </a:cubicBezTo>
                <a:cubicBezTo>
                  <a:pt x="16533" y="12724"/>
                  <a:pt x="16498" y="12830"/>
                  <a:pt x="16470" y="12898"/>
                </a:cubicBezTo>
                <a:cubicBezTo>
                  <a:pt x="16444" y="12960"/>
                  <a:pt x="16391" y="13022"/>
                  <a:pt x="16346" y="13072"/>
                </a:cubicBezTo>
                <a:cubicBezTo>
                  <a:pt x="16311" y="13111"/>
                  <a:pt x="16281" y="13159"/>
                  <a:pt x="16222" y="13146"/>
                </a:cubicBezTo>
                <a:cubicBezTo>
                  <a:pt x="16154" y="13131"/>
                  <a:pt x="16123" y="13062"/>
                  <a:pt x="16148" y="12998"/>
                </a:cubicBezTo>
                <a:cubicBezTo>
                  <a:pt x="16164" y="12956"/>
                  <a:pt x="16229" y="12913"/>
                  <a:pt x="16272" y="12923"/>
                </a:cubicBezTo>
                <a:cubicBezTo>
                  <a:pt x="16377" y="12948"/>
                  <a:pt x="16367" y="13061"/>
                  <a:pt x="16371" y="13146"/>
                </a:cubicBezTo>
                <a:cubicBezTo>
                  <a:pt x="16371" y="13188"/>
                  <a:pt x="16371" y="13196"/>
                  <a:pt x="16371" y="13221"/>
                </a:cubicBezTo>
              </a:path>
              <a:path w="8931" h="4863">
                <a:moveTo>
                  <a:pt x="16743" y="12601"/>
                </a:moveTo>
                <a:cubicBezTo>
                  <a:pt x="16780" y="12674"/>
                  <a:pt x="16768" y="12761"/>
                  <a:pt x="16768" y="12849"/>
                </a:cubicBezTo>
                <a:cubicBezTo>
                  <a:pt x="16768" y="12926"/>
                  <a:pt x="16793" y="12993"/>
                  <a:pt x="16793" y="13072"/>
                </a:cubicBezTo>
                <a:cubicBezTo>
                  <a:pt x="16793" y="13089"/>
                  <a:pt x="16793" y="13105"/>
                  <a:pt x="16793" y="13122"/>
                </a:cubicBezTo>
                <a:cubicBezTo>
                  <a:pt x="16793" y="13009"/>
                  <a:pt x="16804" y="12905"/>
                  <a:pt x="16818" y="12799"/>
                </a:cubicBezTo>
                <a:cubicBezTo>
                  <a:pt x="16830" y="12706"/>
                  <a:pt x="16874" y="12643"/>
                  <a:pt x="16892" y="12551"/>
                </a:cubicBezTo>
                <a:cubicBezTo>
                  <a:pt x="16910" y="12455"/>
                  <a:pt x="16944" y="12424"/>
                  <a:pt x="17016" y="12353"/>
                </a:cubicBezTo>
                <a:cubicBezTo>
                  <a:pt x="17077" y="12293"/>
                  <a:pt x="17123" y="12278"/>
                  <a:pt x="17190" y="12254"/>
                </a:cubicBezTo>
                <a:cubicBezTo>
                  <a:pt x="17230" y="12234"/>
                  <a:pt x="17236" y="12225"/>
                  <a:pt x="17264" y="12229"/>
                </a:cubicBezTo>
              </a:path>
              <a:path w="8931" h="4863">
                <a:moveTo>
                  <a:pt x="17115" y="12526"/>
                </a:moveTo>
                <a:cubicBezTo>
                  <a:pt x="17160" y="12491"/>
                  <a:pt x="17210" y="12449"/>
                  <a:pt x="17264" y="12427"/>
                </a:cubicBezTo>
                <a:cubicBezTo>
                  <a:pt x="17329" y="12405"/>
                  <a:pt x="17344" y="12397"/>
                  <a:pt x="17388" y="12402"/>
                </a:cubicBezTo>
                <a:cubicBezTo>
                  <a:pt x="17418" y="12476"/>
                  <a:pt x="17374" y="12501"/>
                  <a:pt x="17314" y="12551"/>
                </a:cubicBezTo>
                <a:cubicBezTo>
                  <a:pt x="17261" y="12595"/>
                  <a:pt x="17234" y="12651"/>
                  <a:pt x="17190" y="12700"/>
                </a:cubicBezTo>
                <a:cubicBezTo>
                  <a:pt x="17182" y="12708"/>
                  <a:pt x="17173" y="12717"/>
                  <a:pt x="17165" y="12725"/>
                </a:cubicBezTo>
                <a:cubicBezTo>
                  <a:pt x="17259" y="12689"/>
                  <a:pt x="17270" y="12691"/>
                  <a:pt x="17363" y="12700"/>
                </a:cubicBezTo>
                <a:cubicBezTo>
                  <a:pt x="17408" y="12700"/>
                  <a:pt x="17421" y="12697"/>
                  <a:pt x="17438" y="12725"/>
                </a:cubicBezTo>
                <a:cubicBezTo>
                  <a:pt x="17424" y="12833"/>
                  <a:pt x="17378" y="12827"/>
                  <a:pt x="17314" y="12898"/>
                </a:cubicBezTo>
                <a:cubicBezTo>
                  <a:pt x="17257" y="12962"/>
                  <a:pt x="17220" y="13063"/>
                  <a:pt x="17140" y="13097"/>
                </a:cubicBezTo>
                <a:cubicBezTo>
                  <a:pt x="17132" y="13097"/>
                  <a:pt x="17123" y="13097"/>
                  <a:pt x="17115" y="13097"/>
                </a:cubicBezTo>
              </a:path>
              <a:path w="8931" h="4863">
                <a:moveTo>
                  <a:pt x="17735" y="12427"/>
                </a:moveTo>
                <a:cubicBezTo>
                  <a:pt x="17778" y="12491"/>
                  <a:pt x="17809" y="12563"/>
                  <a:pt x="17785" y="12650"/>
                </a:cubicBezTo>
                <a:cubicBezTo>
                  <a:pt x="17767" y="12714"/>
                  <a:pt x="17747" y="12792"/>
                  <a:pt x="17735" y="12849"/>
                </a:cubicBezTo>
                <a:cubicBezTo>
                  <a:pt x="17735" y="12865"/>
                  <a:pt x="17735" y="12882"/>
                  <a:pt x="17735" y="12898"/>
                </a:cubicBezTo>
              </a:path>
              <a:path w="8931" h="4863">
                <a:moveTo>
                  <a:pt x="17611" y="12725"/>
                </a:moveTo>
                <a:cubicBezTo>
                  <a:pt x="17654" y="12776"/>
                  <a:pt x="17705" y="12795"/>
                  <a:pt x="17785" y="12774"/>
                </a:cubicBezTo>
                <a:cubicBezTo>
                  <a:pt x="17802" y="12766"/>
                  <a:pt x="17818" y="12758"/>
                  <a:pt x="17835" y="12750"/>
                </a:cubicBezTo>
              </a:path>
              <a:path w="8931" h="4863">
                <a:moveTo>
                  <a:pt x="18058" y="12402"/>
                </a:moveTo>
                <a:cubicBezTo>
                  <a:pt x="18058" y="12480"/>
                  <a:pt x="18036" y="12590"/>
                  <a:pt x="18083" y="12650"/>
                </a:cubicBezTo>
                <a:cubicBezTo>
                  <a:pt x="18121" y="12699"/>
                  <a:pt x="18195" y="12666"/>
                  <a:pt x="18231" y="12626"/>
                </a:cubicBezTo>
                <a:cubicBezTo>
                  <a:pt x="18248" y="12601"/>
                  <a:pt x="18264" y="12576"/>
                  <a:pt x="18281" y="12551"/>
                </a:cubicBezTo>
              </a:path>
              <a:path w="8931" h="4863">
                <a:moveTo>
                  <a:pt x="18380" y="12204"/>
                </a:moveTo>
                <a:cubicBezTo>
                  <a:pt x="18330" y="12287"/>
                  <a:pt x="18299" y="12404"/>
                  <a:pt x="18256" y="12502"/>
                </a:cubicBezTo>
                <a:cubicBezTo>
                  <a:pt x="18220" y="12582"/>
                  <a:pt x="18231" y="12662"/>
                  <a:pt x="18231" y="12750"/>
                </a:cubicBezTo>
                <a:cubicBezTo>
                  <a:pt x="18231" y="12833"/>
                  <a:pt x="18225" y="12946"/>
                  <a:pt x="18256" y="13022"/>
                </a:cubicBezTo>
                <a:cubicBezTo>
                  <a:pt x="18264" y="13030"/>
                  <a:pt x="18273" y="13039"/>
                  <a:pt x="18281" y="13047"/>
                </a:cubicBezTo>
              </a:path>
              <a:path w="8931" h="4863">
                <a:moveTo>
                  <a:pt x="16594" y="13643"/>
                </a:moveTo>
                <a:cubicBezTo>
                  <a:pt x="16707" y="13564"/>
                  <a:pt x="16695" y="13598"/>
                  <a:pt x="16818" y="13568"/>
                </a:cubicBezTo>
                <a:cubicBezTo>
                  <a:pt x="16901" y="13548"/>
                  <a:pt x="16980" y="13516"/>
                  <a:pt x="17066" y="13494"/>
                </a:cubicBezTo>
                <a:cubicBezTo>
                  <a:pt x="17221" y="13455"/>
                  <a:pt x="17380" y="13434"/>
                  <a:pt x="17537" y="13395"/>
                </a:cubicBezTo>
                <a:cubicBezTo>
                  <a:pt x="17636" y="13370"/>
                  <a:pt x="17739" y="13335"/>
                  <a:pt x="17835" y="13320"/>
                </a:cubicBezTo>
                <a:cubicBezTo>
                  <a:pt x="17885" y="13312"/>
                  <a:pt x="17894" y="13335"/>
                  <a:pt x="17934" y="13345"/>
                </a:cubicBezTo>
              </a:path>
              <a:path w="8931" h="4863">
                <a:moveTo>
                  <a:pt x="17090" y="13816"/>
                </a:moveTo>
                <a:cubicBezTo>
                  <a:pt x="17161" y="13760"/>
                  <a:pt x="17223" y="13745"/>
                  <a:pt x="17314" y="13742"/>
                </a:cubicBezTo>
                <a:cubicBezTo>
                  <a:pt x="17375" y="13742"/>
                  <a:pt x="17391" y="13733"/>
                  <a:pt x="17413" y="13767"/>
                </a:cubicBezTo>
                <a:cubicBezTo>
                  <a:pt x="17402" y="13852"/>
                  <a:pt x="17367" y="13918"/>
                  <a:pt x="17314" y="13990"/>
                </a:cubicBezTo>
                <a:cubicBezTo>
                  <a:pt x="17281" y="14034"/>
                  <a:pt x="17253" y="14074"/>
                  <a:pt x="17214" y="14114"/>
                </a:cubicBezTo>
                <a:cubicBezTo>
                  <a:pt x="17161" y="14168"/>
                  <a:pt x="17160" y="14168"/>
                  <a:pt x="17214" y="14114"/>
                </a:cubicBezTo>
                <a:cubicBezTo>
                  <a:pt x="17260" y="14068"/>
                  <a:pt x="17274" y="14027"/>
                  <a:pt x="17338" y="14015"/>
                </a:cubicBezTo>
                <a:cubicBezTo>
                  <a:pt x="17418" y="14000"/>
                  <a:pt x="17487" y="14024"/>
                  <a:pt x="17537" y="14089"/>
                </a:cubicBezTo>
                <a:cubicBezTo>
                  <a:pt x="17579" y="14144"/>
                  <a:pt x="17531" y="14250"/>
                  <a:pt x="17512" y="14312"/>
                </a:cubicBezTo>
                <a:cubicBezTo>
                  <a:pt x="17479" y="14417"/>
                  <a:pt x="17399" y="14516"/>
                  <a:pt x="17338" y="14610"/>
                </a:cubicBezTo>
                <a:cubicBezTo>
                  <a:pt x="17284" y="14694"/>
                  <a:pt x="17250" y="14784"/>
                  <a:pt x="17165" y="14808"/>
                </a:cubicBezTo>
              </a:path>
              <a:path w="8931" h="4863">
                <a:moveTo>
                  <a:pt x="18331" y="11906"/>
                </a:moveTo>
                <a:cubicBezTo>
                  <a:pt x="18404" y="11943"/>
                  <a:pt x="18466" y="11977"/>
                  <a:pt x="18529" y="12055"/>
                </a:cubicBezTo>
                <a:cubicBezTo>
                  <a:pt x="18604" y="12149"/>
                  <a:pt x="18657" y="12258"/>
                  <a:pt x="18728" y="12353"/>
                </a:cubicBezTo>
                <a:cubicBezTo>
                  <a:pt x="18808" y="12459"/>
                  <a:pt x="18831" y="12602"/>
                  <a:pt x="18876" y="12725"/>
                </a:cubicBezTo>
                <a:cubicBezTo>
                  <a:pt x="18937" y="12891"/>
                  <a:pt x="18944" y="13067"/>
                  <a:pt x="18926" y="13246"/>
                </a:cubicBezTo>
                <a:cubicBezTo>
                  <a:pt x="18902" y="13482"/>
                  <a:pt x="18818" y="13773"/>
                  <a:pt x="18728" y="13990"/>
                </a:cubicBezTo>
                <a:cubicBezTo>
                  <a:pt x="18663" y="14148"/>
                  <a:pt x="18574" y="14306"/>
                  <a:pt x="18504" y="14461"/>
                </a:cubicBezTo>
                <a:cubicBezTo>
                  <a:pt x="18463" y="14552"/>
                  <a:pt x="18432" y="14641"/>
                  <a:pt x="18405" y="14734"/>
                </a:cubicBezTo>
              </a:path>
              <a:path w="8931" h="4863">
                <a:moveTo>
                  <a:pt x="19298" y="13271"/>
                </a:moveTo>
                <a:cubicBezTo>
                  <a:pt x="19290" y="13346"/>
                  <a:pt x="19276" y="13350"/>
                  <a:pt x="19298" y="13395"/>
                </a:cubicBezTo>
                <a:cubicBezTo>
                  <a:pt x="19337" y="13356"/>
                  <a:pt x="19391" y="13310"/>
                  <a:pt x="19372" y="13246"/>
                </a:cubicBezTo>
                <a:cubicBezTo>
                  <a:pt x="19353" y="13183"/>
                  <a:pt x="19248" y="13273"/>
                  <a:pt x="19224" y="13295"/>
                </a:cubicBezTo>
                <a:cubicBezTo>
                  <a:pt x="19216" y="13303"/>
                  <a:pt x="19207" y="13312"/>
                  <a:pt x="19199" y="13320"/>
                </a:cubicBezTo>
                <a:cubicBezTo>
                  <a:pt x="19244" y="13331"/>
                  <a:pt x="19327" y="13344"/>
                  <a:pt x="19348" y="13271"/>
                </a:cubicBezTo>
                <a:cubicBezTo>
                  <a:pt x="19348" y="13254"/>
                  <a:pt x="19348" y="13238"/>
                  <a:pt x="19348" y="13221"/>
                </a:cubicBezTo>
                <a:cubicBezTo>
                  <a:pt x="19329" y="13231"/>
                  <a:pt x="19203" y="13283"/>
                  <a:pt x="19199" y="13295"/>
                </a:cubicBezTo>
                <a:cubicBezTo>
                  <a:pt x="19179" y="13351"/>
                  <a:pt x="19275" y="13423"/>
                  <a:pt x="19248" y="13345"/>
                </a:cubicBezTo>
                <a:cubicBezTo>
                  <a:pt x="19234" y="13356"/>
                  <a:pt x="19146" y="13395"/>
                  <a:pt x="19149" y="13419"/>
                </a:cubicBezTo>
                <a:cubicBezTo>
                  <a:pt x="19174" y="13444"/>
                  <a:pt x="19182" y="13452"/>
                  <a:pt x="19199" y="13419"/>
                </a:cubicBezTo>
              </a:path>
              <a:path w="8931" h="4863">
                <a:moveTo>
                  <a:pt x="19943" y="12105"/>
                </a:moveTo>
                <a:cubicBezTo>
                  <a:pt x="20037" y="12068"/>
                  <a:pt x="20143" y="12021"/>
                  <a:pt x="20241" y="12005"/>
                </a:cubicBezTo>
                <a:cubicBezTo>
                  <a:pt x="20316" y="11992"/>
                  <a:pt x="20372" y="12019"/>
                  <a:pt x="20439" y="12030"/>
                </a:cubicBezTo>
                <a:cubicBezTo>
                  <a:pt x="20520" y="12044"/>
                  <a:pt x="20511" y="12142"/>
                  <a:pt x="20464" y="12204"/>
                </a:cubicBezTo>
                <a:cubicBezTo>
                  <a:pt x="20393" y="12297"/>
                  <a:pt x="20188" y="12375"/>
                  <a:pt x="20141" y="12477"/>
                </a:cubicBezTo>
                <a:cubicBezTo>
                  <a:pt x="20149" y="12485"/>
                  <a:pt x="20158" y="12494"/>
                  <a:pt x="20166" y="12502"/>
                </a:cubicBezTo>
                <a:cubicBezTo>
                  <a:pt x="20243" y="12492"/>
                  <a:pt x="20307" y="12477"/>
                  <a:pt x="20389" y="12477"/>
                </a:cubicBezTo>
                <a:cubicBezTo>
                  <a:pt x="20450" y="12477"/>
                  <a:pt x="20551" y="12462"/>
                  <a:pt x="20588" y="12526"/>
                </a:cubicBezTo>
                <a:cubicBezTo>
                  <a:pt x="20651" y="12634"/>
                  <a:pt x="20567" y="12661"/>
                  <a:pt x="20513" y="12725"/>
                </a:cubicBezTo>
                <a:cubicBezTo>
                  <a:pt x="20441" y="12810"/>
                  <a:pt x="20361" y="12864"/>
                  <a:pt x="20265" y="12923"/>
                </a:cubicBezTo>
              </a:path>
              <a:path w="8931" h="4863">
                <a:moveTo>
                  <a:pt x="19720" y="13271"/>
                </a:moveTo>
                <a:cubicBezTo>
                  <a:pt x="19803" y="13237"/>
                  <a:pt x="19886" y="13218"/>
                  <a:pt x="19968" y="13196"/>
                </a:cubicBezTo>
                <a:cubicBezTo>
                  <a:pt x="20063" y="13171"/>
                  <a:pt x="20149" y="13145"/>
                  <a:pt x="20241" y="13122"/>
                </a:cubicBezTo>
                <a:cubicBezTo>
                  <a:pt x="20318" y="13103"/>
                  <a:pt x="20382" y="13097"/>
                  <a:pt x="20464" y="13097"/>
                </a:cubicBezTo>
                <a:cubicBezTo>
                  <a:pt x="20508" y="13097"/>
                  <a:pt x="20522" y="13094"/>
                  <a:pt x="20538" y="13122"/>
                </a:cubicBezTo>
              </a:path>
              <a:path w="8931" h="4863">
                <a:moveTo>
                  <a:pt x="20092" y="13469"/>
                </a:moveTo>
                <a:cubicBezTo>
                  <a:pt x="20041" y="13498"/>
                  <a:pt x="20010" y="13526"/>
                  <a:pt x="19968" y="13568"/>
                </a:cubicBezTo>
                <a:cubicBezTo>
                  <a:pt x="20017" y="13538"/>
                  <a:pt x="20072" y="13539"/>
                  <a:pt x="20117" y="13593"/>
                </a:cubicBezTo>
                <a:cubicBezTo>
                  <a:pt x="20155" y="13638"/>
                  <a:pt x="20223" y="13780"/>
                  <a:pt x="20216" y="13841"/>
                </a:cubicBezTo>
                <a:cubicBezTo>
                  <a:pt x="20207" y="13917"/>
                  <a:pt x="20154" y="13990"/>
                  <a:pt x="20141" y="14064"/>
                </a:cubicBezTo>
                <a:cubicBezTo>
                  <a:pt x="20125" y="14158"/>
                  <a:pt x="20122" y="14276"/>
                  <a:pt x="20067" y="14362"/>
                </a:cubicBezTo>
                <a:cubicBezTo>
                  <a:pt x="19999" y="14469"/>
                  <a:pt x="19929" y="14585"/>
                  <a:pt x="19844" y="14684"/>
                </a:cubicBezTo>
                <a:cubicBezTo>
                  <a:pt x="19794" y="14742"/>
                  <a:pt x="19734" y="14794"/>
                  <a:pt x="19670" y="14833"/>
                </a:cubicBezTo>
                <a:cubicBezTo>
                  <a:pt x="19597" y="14877"/>
                  <a:pt x="19531" y="14871"/>
                  <a:pt x="19521" y="14784"/>
                </a:cubicBezTo>
                <a:cubicBezTo>
                  <a:pt x="19511" y="14704"/>
                  <a:pt x="19549" y="14653"/>
                  <a:pt x="19596" y="14610"/>
                </a:cubicBezTo>
                <a:cubicBezTo>
                  <a:pt x="19661" y="14551"/>
                  <a:pt x="19709" y="14560"/>
                  <a:pt x="19794" y="14560"/>
                </a:cubicBezTo>
                <a:cubicBezTo>
                  <a:pt x="19846" y="14560"/>
                  <a:pt x="19940" y="14583"/>
                  <a:pt x="19968" y="14635"/>
                </a:cubicBezTo>
                <a:cubicBezTo>
                  <a:pt x="20010" y="14714"/>
                  <a:pt x="20040" y="14778"/>
                  <a:pt x="20067" y="14858"/>
                </a:cubicBezTo>
                <a:cubicBezTo>
                  <a:pt x="20087" y="14898"/>
                  <a:pt x="20096" y="14905"/>
                  <a:pt x="20092" y="14932"/>
                </a:cubicBezTo>
              </a:path>
              <a:path w="8931" h="4863">
                <a:moveTo>
                  <a:pt x="21878" y="12923"/>
                </a:moveTo>
                <a:cubicBezTo>
                  <a:pt x="21931" y="12976"/>
                  <a:pt x="21951" y="12973"/>
                  <a:pt x="22027" y="12973"/>
                </a:cubicBezTo>
                <a:cubicBezTo>
                  <a:pt x="22143" y="12973"/>
                  <a:pt x="22262" y="12948"/>
                  <a:pt x="22374" y="12923"/>
                </a:cubicBezTo>
                <a:cubicBezTo>
                  <a:pt x="22497" y="12895"/>
                  <a:pt x="22625" y="12860"/>
                  <a:pt x="22746" y="12824"/>
                </a:cubicBezTo>
                <a:cubicBezTo>
                  <a:pt x="22868" y="12788"/>
                  <a:pt x="22993" y="12745"/>
                  <a:pt x="23118" y="12725"/>
                </a:cubicBezTo>
                <a:cubicBezTo>
                  <a:pt x="23255" y="12703"/>
                  <a:pt x="23378" y="12700"/>
                  <a:pt x="23515" y="12700"/>
                </a:cubicBezTo>
                <a:cubicBezTo>
                  <a:pt x="23563" y="12700"/>
                  <a:pt x="23659" y="12677"/>
                  <a:pt x="23688" y="12725"/>
                </a:cubicBezTo>
                <a:cubicBezTo>
                  <a:pt x="23688" y="12733"/>
                  <a:pt x="23688" y="12742"/>
                  <a:pt x="23688" y="12750"/>
                </a:cubicBezTo>
              </a:path>
              <a:path w="8931" h="4863">
                <a:moveTo>
                  <a:pt x="22771" y="13271"/>
                </a:moveTo>
                <a:cubicBezTo>
                  <a:pt x="22754" y="13271"/>
                  <a:pt x="22738" y="13271"/>
                  <a:pt x="22721" y="13271"/>
                </a:cubicBezTo>
                <a:cubicBezTo>
                  <a:pt x="22729" y="13209"/>
                  <a:pt x="22738" y="13159"/>
                  <a:pt x="22796" y="13122"/>
                </a:cubicBezTo>
                <a:cubicBezTo>
                  <a:pt x="22886" y="13064"/>
                  <a:pt x="22957" y="13070"/>
                  <a:pt x="23044" y="13122"/>
                </a:cubicBezTo>
                <a:cubicBezTo>
                  <a:pt x="23115" y="13164"/>
                  <a:pt x="23126" y="13302"/>
                  <a:pt x="23118" y="13370"/>
                </a:cubicBezTo>
                <a:cubicBezTo>
                  <a:pt x="23104" y="13491"/>
                  <a:pt x="23043" y="13569"/>
                  <a:pt x="22994" y="13667"/>
                </a:cubicBezTo>
                <a:cubicBezTo>
                  <a:pt x="22943" y="13770"/>
                  <a:pt x="22912" y="13821"/>
                  <a:pt x="22845" y="13915"/>
                </a:cubicBezTo>
                <a:cubicBezTo>
                  <a:pt x="22782" y="14003"/>
                  <a:pt x="22760" y="14015"/>
                  <a:pt x="22647" y="14015"/>
                </a:cubicBezTo>
                <a:cubicBezTo>
                  <a:pt x="22573" y="14015"/>
                  <a:pt x="22551" y="13985"/>
                  <a:pt x="22547" y="13915"/>
                </a:cubicBezTo>
                <a:cubicBezTo>
                  <a:pt x="22541" y="13822"/>
                  <a:pt x="22598" y="13841"/>
                  <a:pt x="22671" y="13841"/>
                </a:cubicBezTo>
                <a:cubicBezTo>
                  <a:pt x="22721" y="13841"/>
                  <a:pt x="22788" y="13870"/>
                  <a:pt x="22820" y="13915"/>
                </a:cubicBezTo>
                <a:cubicBezTo>
                  <a:pt x="22881" y="14001"/>
                  <a:pt x="22895" y="14060"/>
                  <a:pt x="22895" y="14163"/>
                </a:cubicBezTo>
                <a:cubicBezTo>
                  <a:pt x="22895" y="14205"/>
                  <a:pt x="22895" y="14196"/>
                  <a:pt x="22895" y="14238"/>
                </a:cubicBezTo>
              </a:path>
              <a:path w="8931" h="4863">
                <a:moveTo>
                  <a:pt x="20563" y="15205"/>
                </a:moveTo>
                <a:cubicBezTo>
                  <a:pt x="20614" y="15236"/>
                  <a:pt x="20697" y="15243"/>
                  <a:pt x="20762" y="15230"/>
                </a:cubicBezTo>
                <a:cubicBezTo>
                  <a:pt x="20850" y="15213"/>
                  <a:pt x="20956" y="15170"/>
                  <a:pt x="21034" y="15230"/>
                </a:cubicBezTo>
                <a:cubicBezTo>
                  <a:pt x="21088" y="15272"/>
                  <a:pt x="21126" y="15321"/>
                  <a:pt x="21158" y="15379"/>
                </a:cubicBezTo>
              </a:path>
              <a:path w="8931" h="4863">
                <a:moveTo>
                  <a:pt x="20712" y="15553"/>
                </a:moveTo>
                <a:cubicBezTo>
                  <a:pt x="20687" y="15577"/>
                  <a:pt x="20678" y="15585"/>
                  <a:pt x="20662" y="15602"/>
                </a:cubicBezTo>
                <a:cubicBezTo>
                  <a:pt x="20725" y="15564"/>
                  <a:pt x="20793" y="15578"/>
                  <a:pt x="20861" y="15553"/>
                </a:cubicBezTo>
                <a:cubicBezTo>
                  <a:pt x="20929" y="15528"/>
                  <a:pt x="21019" y="15502"/>
                  <a:pt x="21084" y="15553"/>
                </a:cubicBezTo>
                <a:cubicBezTo>
                  <a:pt x="21114" y="15582"/>
                  <a:pt x="21128" y="15593"/>
                  <a:pt x="21158" y="15602"/>
                </a:cubicBezTo>
              </a:path>
              <a:path w="8931" h="4863">
                <a:moveTo>
                  <a:pt x="21530" y="15329"/>
                </a:moveTo>
                <a:cubicBezTo>
                  <a:pt x="21539" y="15418"/>
                  <a:pt x="21542" y="15513"/>
                  <a:pt x="21555" y="15602"/>
                </a:cubicBezTo>
                <a:cubicBezTo>
                  <a:pt x="21570" y="15702"/>
                  <a:pt x="21590" y="15805"/>
                  <a:pt x="21605" y="15900"/>
                </a:cubicBezTo>
                <a:cubicBezTo>
                  <a:pt x="21611" y="15939"/>
                  <a:pt x="21634" y="16103"/>
                  <a:pt x="21630" y="16123"/>
                </a:cubicBezTo>
                <a:cubicBezTo>
                  <a:pt x="21622" y="16131"/>
                  <a:pt x="21613" y="16140"/>
                  <a:pt x="21605" y="16148"/>
                </a:cubicBezTo>
                <a:cubicBezTo>
                  <a:pt x="21529" y="16083"/>
                  <a:pt x="21520" y="16005"/>
                  <a:pt x="21506" y="15900"/>
                </a:cubicBezTo>
                <a:cubicBezTo>
                  <a:pt x="21494" y="15809"/>
                  <a:pt x="21485" y="15717"/>
                  <a:pt x="21481" y="15627"/>
                </a:cubicBezTo>
                <a:cubicBezTo>
                  <a:pt x="21479" y="15577"/>
                  <a:pt x="21506" y="15476"/>
                  <a:pt x="21530" y="15429"/>
                </a:cubicBezTo>
                <a:cubicBezTo>
                  <a:pt x="21554" y="15380"/>
                  <a:pt x="21582" y="15336"/>
                  <a:pt x="21605" y="15280"/>
                </a:cubicBezTo>
                <a:cubicBezTo>
                  <a:pt x="21641" y="15193"/>
                  <a:pt x="21674" y="15155"/>
                  <a:pt x="21754" y="15106"/>
                </a:cubicBezTo>
                <a:cubicBezTo>
                  <a:pt x="21825" y="15063"/>
                  <a:pt x="21866" y="15012"/>
                  <a:pt x="21952" y="15007"/>
                </a:cubicBezTo>
                <a:cubicBezTo>
                  <a:pt x="22002" y="15007"/>
                  <a:pt x="22018" y="15007"/>
                  <a:pt x="22051" y="15007"/>
                </a:cubicBezTo>
              </a:path>
              <a:path w="8931" h="4863">
                <a:moveTo>
                  <a:pt x="21828" y="15354"/>
                </a:moveTo>
                <a:cubicBezTo>
                  <a:pt x="21803" y="15379"/>
                  <a:pt x="21795" y="15387"/>
                  <a:pt x="21779" y="15404"/>
                </a:cubicBezTo>
                <a:cubicBezTo>
                  <a:pt x="21754" y="15355"/>
                  <a:pt x="21783" y="15348"/>
                  <a:pt x="21828" y="15304"/>
                </a:cubicBezTo>
                <a:cubicBezTo>
                  <a:pt x="21862" y="15272"/>
                  <a:pt x="21879" y="15255"/>
                  <a:pt x="21903" y="15230"/>
                </a:cubicBezTo>
                <a:cubicBezTo>
                  <a:pt x="21972" y="15291"/>
                  <a:pt x="22023" y="15306"/>
                  <a:pt x="22027" y="15404"/>
                </a:cubicBezTo>
                <a:cubicBezTo>
                  <a:pt x="22029" y="15459"/>
                  <a:pt x="22011" y="15618"/>
                  <a:pt x="21952" y="15652"/>
                </a:cubicBezTo>
                <a:cubicBezTo>
                  <a:pt x="21936" y="15652"/>
                  <a:pt x="21919" y="15652"/>
                  <a:pt x="21903" y="15652"/>
                </a:cubicBezTo>
                <a:cubicBezTo>
                  <a:pt x="21911" y="15597"/>
                  <a:pt x="21924" y="15535"/>
                  <a:pt x="22002" y="15553"/>
                </a:cubicBezTo>
                <a:cubicBezTo>
                  <a:pt x="22082" y="15571"/>
                  <a:pt x="22135" y="15621"/>
                  <a:pt x="22151" y="15701"/>
                </a:cubicBezTo>
                <a:cubicBezTo>
                  <a:pt x="22167" y="15778"/>
                  <a:pt x="22131" y="15856"/>
                  <a:pt x="22101" y="15925"/>
                </a:cubicBezTo>
                <a:cubicBezTo>
                  <a:pt x="22046" y="16052"/>
                  <a:pt x="22047" y="16121"/>
                  <a:pt x="21927" y="16073"/>
                </a:cubicBezTo>
              </a:path>
              <a:path w="8931" h="4863">
                <a:moveTo>
                  <a:pt x="22597" y="14908"/>
                </a:moveTo>
                <a:cubicBezTo>
                  <a:pt x="22597" y="14997"/>
                  <a:pt x="22585" y="15073"/>
                  <a:pt x="22572" y="15156"/>
                </a:cubicBezTo>
                <a:cubicBezTo>
                  <a:pt x="22545" y="15327"/>
                  <a:pt x="22572" y="15527"/>
                  <a:pt x="22572" y="15701"/>
                </a:cubicBezTo>
              </a:path>
              <a:path w="8931" h="4863">
                <a:moveTo>
                  <a:pt x="22324" y="15404"/>
                </a:moveTo>
                <a:cubicBezTo>
                  <a:pt x="22401" y="15394"/>
                  <a:pt x="22469" y="15365"/>
                  <a:pt x="22547" y="15354"/>
                </a:cubicBezTo>
                <a:cubicBezTo>
                  <a:pt x="22606" y="15346"/>
                  <a:pt x="22662" y="15336"/>
                  <a:pt x="22721" y="15329"/>
                </a:cubicBezTo>
              </a:path>
              <a:path w="8931" h="4863">
                <a:moveTo>
                  <a:pt x="23044" y="14759"/>
                </a:moveTo>
                <a:cubicBezTo>
                  <a:pt x="23094" y="14643"/>
                  <a:pt x="23091" y="14592"/>
                  <a:pt x="23217" y="14585"/>
                </a:cubicBezTo>
                <a:cubicBezTo>
                  <a:pt x="23292" y="14581"/>
                  <a:pt x="23315" y="14584"/>
                  <a:pt x="23366" y="14635"/>
                </a:cubicBezTo>
                <a:cubicBezTo>
                  <a:pt x="23411" y="14680"/>
                  <a:pt x="23448" y="14793"/>
                  <a:pt x="23440" y="14858"/>
                </a:cubicBezTo>
                <a:cubicBezTo>
                  <a:pt x="23428" y="14953"/>
                  <a:pt x="23381" y="15040"/>
                  <a:pt x="23366" y="15131"/>
                </a:cubicBezTo>
                <a:cubicBezTo>
                  <a:pt x="23351" y="15226"/>
                  <a:pt x="23331" y="15348"/>
                  <a:pt x="23267" y="15429"/>
                </a:cubicBezTo>
                <a:cubicBezTo>
                  <a:pt x="23227" y="15480"/>
                  <a:pt x="23160" y="15577"/>
                  <a:pt x="23093" y="15577"/>
                </a:cubicBezTo>
                <a:cubicBezTo>
                  <a:pt x="23030" y="15577"/>
                  <a:pt x="22999" y="15480"/>
                  <a:pt x="22994" y="15429"/>
                </a:cubicBezTo>
                <a:cubicBezTo>
                  <a:pt x="22985" y="15345"/>
                  <a:pt x="23048" y="15333"/>
                  <a:pt x="23118" y="15329"/>
                </a:cubicBezTo>
                <a:cubicBezTo>
                  <a:pt x="23173" y="15326"/>
                  <a:pt x="23222" y="15355"/>
                  <a:pt x="23267" y="15379"/>
                </a:cubicBezTo>
                <a:cubicBezTo>
                  <a:pt x="23369" y="15434"/>
                  <a:pt x="23403" y="15548"/>
                  <a:pt x="23440" y="15652"/>
                </a:cubicBezTo>
              </a:path>
              <a:path w="8931" h="4863">
                <a:moveTo>
                  <a:pt x="23713" y="14412"/>
                </a:moveTo>
                <a:cubicBezTo>
                  <a:pt x="23598" y="14287"/>
                  <a:pt x="23555" y="14248"/>
                  <a:pt x="23391" y="14238"/>
                </a:cubicBezTo>
                <a:cubicBezTo>
                  <a:pt x="23223" y="14228"/>
                  <a:pt x="23058" y="14241"/>
                  <a:pt x="22895" y="14263"/>
                </a:cubicBezTo>
                <a:cubicBezTo>
                  <a:pt x="22731" y="14285"/>
                  <a:pt x="22582" y="14314"/>
                  <a:pt x="22423" y="14362"/>
                </a:cubicBezTo>
                <a:cubicBezTo>
                  <a:pt x="22268" y="14409"/>
                  <a:pt x="22149" y="14473"/>
                  <a:pt x="22002" y="14536"/>
                </a:cubicBezTo>
                <a:cubicBezTo>
                  <a:pt x="21822" y="14613"/>
                  <a:pt x="21720" y="14758"/>
                  <a:pt x="21580" y="14883"/>
                </a:cubicBezTo>
                <a:cubicBezTo>
                  <a:pt x="21414" y="15032"/>
                  <a:pt x="21321" y="15145"/>
                  <a:pt x="21258" y="15354"/>
                </a:cubicBezTo>
                <a:cubicBezTo>
                  <a:pt x="21213" y="15504"/>
                  <a:pt x="21149" y="15644"/>
                  <a:pt x="21134" y="15801"/>
                </a:cubicBezTo>
                <a:cubicBezTo>
                  <a:pt x="21124" y="15906"/>
                  <a:pt x="21141" y="16002"/>
                  <a:pt x="21183" y="16098"/>
                </a:cubicBezTo>
                <a:cubicBezTo>
                  <a:pt x="21230" y="16204"/>
                  <a:pt x="21269" y="16268"/>
                  <a:pt x="21332" y="16346"/>
                </a:cubicBezTo>
                <a:cubicBezTo>
                  <a:pt x="21398" y="16427"/>
                  <a:pt x="21465" y="16516"/>
                  <a:pt x="21555" y="16570"/>
                </a:cubicBezTo>
                <a:cubicBezTo>
                  <a:pt x="21634" y="16617"/>
                  <a:pt x="21765" y="16668"/>
                  <a:pt x="21853" y="16694"/>
                </a:cubicBezTo>
                <a:cubicBezTo>
                  <a:pt x="21931" y="16717"/>
                  <a:pt x="22018" y="16716"/>
                  <a:pt x="22101" y="16718"/>
                </a:cubicBezTo>
                <a:cubicBezTo>
                  <a:pt x="22214" y="16721"/>
                  <a:pt x="22334" y="16729"/>
                  <a:pt x="22448" y="16743"/>
                </a:cubicBezTo>
                <a:cubicBezTo>
                  <a:pt x="22551" y="16755"/>
                  <a:pt x="22639" y="16779"/>
                  <a:pt x="22746" y="16768"/>
                </a:cubicBezTo>
                <a:cubicBezTo>
                  <a:pt x="22823" y="16760"/>
                  <a:pt x="22950" y="16723"/>
                  <a:pt x="23019" y="16694"/>
                </a:cubicBezTo>
                <a:cubicBezTo>
                  <a:pt x="23119" y="16652"/>
                  <a:pt x="23264" y="16550"/>
                  <a:pt x="23341" y="16470"/>
                </a:cubicBezTo>
                <a:cubicBezTo>
                  <a:pt x="23409" y="16400"/>
                  <a:pt x="23495" y="16310"/>
                  <a:pt x="23540" y="16222"/>
                </a:cubicBezTo>
                <a:cubicBezTo>
                  <a:pt x="23592" y="16121"/>
                  <a:pt x="23650" y="15979"/>
                  <a:pt x="23688" y="15875"/>
                </a:cubicBezTo>
                <a:cubicBezTo>
                  <a:pt x="23732" y="15756"/>
                  <a:pt x="23735" y="15652"/>
                  <a:pt x="23738" y="15528"/>
                </a:cubicBezTo>
                <a:cubicBezTo>
                  <a:pt x="23741" y="15397"/>
                  <a:pt x="23744" y="15289"/>
                  <a:pt x="23738" y="15156"/>
                </a:cubicBezTo>
                <a:cubicBezTo>
                  <a:pt x="23733" y="15032"/>
                  <a:pt x="23727" y="14952"/>
                  <a:pt x="23688" y="14833"/>
                </a:cubicBezTo>
                <a:cubicBezTo>
                  <a:pt x="23649" y="14714"/>
                  <a:pt x="23611" y="14561"/>
                  <a:pt x="23540" y="14461"/>
                </a:cubicBezTo>
                <a:cubicBezTo>
                  <a:pt x="23495" y="14397"/>
                  <a:pt x="23438" y="14351"/>
                  <a:pt x="23366" y="14312"/>
                </a:cubicBezTo>
                <a:cubicBezTo>
                  <a:pt x="23280" y="14265"/>
                  <a:pt x="23227" y="14255"/>
                  <a:pt x="23118" y="14263"/>
                </a:cubicBezTo>
                <a:cubicBezTo>
                  <a:pt x="23085" y="14271"/>
                  <a:pt x="23052" y="14280"/>
                  <a:pt x="23019" y="142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Ink 22"/>
          <p:cNvSpPr/>
          <p:nvPr/>
        </p:nvSpPr>
        <p:spPr>
          <a:xfrm>
            <a:off x="1214280" y="4116240"/>
            <a:ext cx="1143000" cy="1536840"/>
          </a:xfrm>
          <a:custGeom>
            <a:avLst/>
            <a:gdLst/>
            <a:ahLst/>
            <a:rect l="l" t="t" r="r" b="b"/>
            <a:pathLst>
              <a:path w="3176" h="4267">
                <a:moveTo>
                  <a:pt x="3373" y="13866"/>
                </a:moveTo>
                <a:cubicBezTo>
                  <a:pt x="3421" y="13901"/>
                  <a:pt x="3466" y="13932"/>
                  <a:pt x="3522" y="13990"/>
                </a:cubicBezTo>
                <a:cubicBezTo>
                  <a:pt x="3663" y="14138"/>
                  <a:pt x="3804" y="14288"/>
                  <a:pt x="3944" y="14436"/>
                </a:cubicBezTo>
                <a:cubicBezTo>
                  <a:pt x="4119" y="14622"/>
                  <a:pt x="4278" y="14809"/>
                  <a:pt x="4440" y="15007"/>
                </a:cubicBezTo>
                <a:cubicBezTo>
                  <a:pt x="4564" y="15158"/>
                  <a:pt x="4661" y="15330"/>
                  <a:pt x="4787" y="15478"/>
                </a:cubicBezTo>
                <a:cubicBezTo>
                  <a:pt x="4821" y="15518"/>
                  <a:pt x="4948" y="15677"/>
                  <a:pt x="5011" y="15677"/>
                </a:cubicBezTo>
                <a:cubicBezTo>
                  <a:pt x="5064" y="15677"/>
                  <a:pt x="5066" y="15661"/>
                  <a:pt x="5110" y="15652"/>
                </a:cubicBezTo>
              </a:path>
              <a:path w="3176" h="4267">
                <a:moveTo>
                  <a:pt x="5011" y="13940"/>
                </a:moveTo>
                <a:cubicBezTo>
                  <a:pt x="5064" y="14024"/>
                  <a:pt x="5121" y="14110"/>
                  <a:pt x="5184" y="14188"/>
                </a:cubicBezTo>
                <a:cubicBezTo>
                  <a:pt x="5324" y="14361"/>
                  <a:pt x="5498" y="14514"/>
                  <a:pt x="5631" y="14684"/>
                </a:cubicBezTo>
                <a:cubicBezTo>
                  <a:pt x="5755" y="14842"/>
                  <a:pt x="5917" y="15015"/>
                  <a:pt x="6028" y="15180"/>
                </a:cubicBezTo>
                <a:cubicBezTo>
                  <a:pt x="6111" y="15303"/>
                  <a:pt x="6196" y="15429"/>
                  <a:pt x="6276" y="15553"/>
                </a:cubicBezTo>
                <a:cubicBezTo>
                  <a:pt x="6329" y="15635"/>
                  <a:pt x="6371" y="15690"/>
                  <a:pt x="6474" y="15701"/>
                </a:cubicBezTo>
                <a:cubicBezTo>
                  <a:pt x="6574" y="15711"/>
                  <a:pt x="6523" y="15681"/>
                  <a:pt x="6524" y="15627"/>
                </a:cubicBezTo>
              </a:path>
              <a:path w="3176" h="4267">
                <a:moveTo>
                  <a:pt x="5482" y="11460"/>
                </a:moveTo>
                <a:cubicBezTo>
                  <a:pt x="5559" y="11431"/>
                  <a:pt x="5620" y="11435"/>
                  <a:pt x="5705" y="11435"/>
                </a:cubicBezTo>
                <a:cubicBezTo>
                  <a:pt x="5749" y="11435"/>
                  <a:pt x="5858" y="11451"/>
                  <a:pt x="5879" y="11509"/>
                </a:cubicBezTo>
                <a:cubicBezTo>
                  <a:pt x="5908" y="11589"/>
                  <a:pt x="5866" y="11625"/>
                  <a:pt x="5804" y="11658"/>
                </a:cubicBezTo>
                <a:cubicBezTo>
                  <a:pt x="5734" y="11695"/>
                  <a:pt x="5668" y="11670"/>
                  <a:pt x="5606" y="11708"/>
                </a:cubicBezTo>
                <a:cubicBezTo>
                  <a:pt x="5701" y="11708"/>
                  <a:pt x="5744" y="11715"/>
                  <a:pt x="5829" y="11757"/>
                </a:cubicBezTo>
                <a:cubicBezTo>
                  <a:pt x="5900" y="11792"/>
                  <a:pt x="5959" y="11820"/>
                  <a:pt x="5978" y="11906"/>
                </a:cubicBezTo>
                <a:cubicBezTo>
                  <a:pt x="5988" y="11949"/>
                  <a:pt x="5953" y="12041"/>
                  <a:pt x="5904" y="12055"/>
                </a:cubicBezTo>
                <a:cubicBezTo>
                  <a:pt x="5823" y="12078"/>
                  <a:pt x="5721" y="12043"/>
                  <a:pt x="5655" y="12030"/>
                </a:cubicBezTo>
                <a:cubicBezTo>
                  <a:pt x="5614" y="12030"/>
                  <a:pt x="5606" y="12030"/>
                  <a:pt x="5581" y="12030"/>
                </a:cubicBezTo>
              </a:path>
              <a:path w="3176" h="4267">
                <a:moveTo>
                  <a:pt x="6276" y="12204"/>
                </a:moveTo>
                <a:cubicBezTo>
                  <a:pt x="6186" y="12204"/>
                  <a:pt x="6114" y="12219"/>
                  <a:pt x="6028" y="12229"/>
                </a:cubicBezTo>
                <a:cubicBezTo>
                  <a:pt x="5947" y="12238"/>
                  <a:pt x="5856" y="12253"/>
                  <a:pt x="5779" y="12278"/>
                </a:cubicBezTo>
                <a:cubicBezTo>
                  <a:pt x="5728" y="12294"/>
                  <a:pt x="5648" y="12332"/>
                  <a:pt x="5606" y="12353"/>
                </a:cubicBezTo>
                <a:cubicBezTo>
                  <a:pt x="5550" y="12381"/>
                  <a:pt x="5502" y="12383"/>
                  <a:pt x="5581" y="12402"/>
                </a:cubicBezTo>
              </a:path>
              <a:path w="3176" h="4267">
                <a:moveTo>
                  <a:pt x="5779" y="12452"/>
                </a:moveTo>
                <a:cubicBezTo>
                  <a:pt x="5873" y="12494"/>
                  <a:pt x="5966" y="12524"/>
                  <a:pt x="6052" y="12576"/>
                </a:cubicBezTo>
                <a:cubicBezTo>
                  <a:pt x="6069" y="12584"/>
                  <a:pt x="6085" y="12593"/>
                  <a:pt x="6102" y="12601"/>
                </a:cubicBezTo>
                <a:cubicBezTo>
                  <a:pt x="6039" y="12679"/>
                  <a:pt x="6015" y="12675"/>
                  <a:pt x="5928" y="12725"/>
                </a:cubicBezTo>
                <a:cubicBezTo>
                  <a:pt x="5857" y="12765"/>
                  <a:pt x="5787" y="12714"/>
                  <a:pt x="5854" y="12750"/>
                </a:cubicBezTo>
                <a:cubicBezTo>
                  <a:pt x="5899" y="12774"/>
                  <a:pt x="5992" y="12807"/>
                  <a:pt x="6028" y="12849"/>
                </a:cubicBezTo>
                <a:cubicBezTo>
                  <a:pt x="6076" y="12905"/>
                  <a:pt x="6077" y="12951"/>
                  <a:pt x="6077" y="13022"/>
                </a:cubicBezTo>
                <a:cubicBezTo>
                  <a:pt x="6077" y="13116"/>
                  <a:pt x="6011" y="13142"/>
                  <a:pt x="5928" y="13146"/>
                </a:cubicBezTo>
                <a:cubicBezTo>
                  <a:pt x="5841" y="13151"/>
                  <a:pt x="5816" y="13112"/>
                  <a:pt x="5755" y="13072"/>
                </a:cubicBezTo>
                <a:cubicBezTo>
                  <a:pt x="5704" y="13039"/>
                  <a:pt x="5654" y="13011"/>
                  <a:pt x="5606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Ink 23"/>
          <p:cNvSpPr/>
          <p:nvPr/>
        </p:nvSpPr>
        <p:spPr>
          <a:xfrm>
            <a:off x="714240" y="4973760"/>
            <a:ext cx="2090880" cy="785520"/>
          </a:xfrm>
          <a:custGeom>
            <a:avLst/>
            <a:gdLst/>
            <a:ahLst/>
            <a:rect l="l" t="t" r="r" b="b"/>
            <a:pathLst>
              <a:path w="5806" h="2184">
                <a:moveTo>
                  <a:pt x="2431" y="13866"/>
                </a:moveTo>
                <a:cubicBezTo>
                  <a:pt x="2431" y="14252"/>
                  <a:pt x="2407" y="14656"/>
                  <a:pt x="2456" y="15032"/>
                </a:cubicBezTo>
                <a:cubicBezTo>
                  <a:pt x="2462" y="15079"/>
                  <a:pt x="2456" y="15132"/>
                  <a:pt x="2456" y="15180"/>
                </a:cubicBezTo>
              </a:path>
              <a:path w="5806" h="2184">
                <a:moveTo>
                  <a:pt x="3076" y="14163"/>
                </a:moveTo>
                <a:cubicBezTo>
                  <a:pt x="3106" y="14247"/>
                  <a:pt x="3125" y="14299"/>
                  <a:pt x="3125" y="14387"/>
                </a:cubicBezTo>
                <a:cubicBezTo>
                  <a:pt x="3125" y="14516"/>
                  <a:pt x="3128" y="14645"/>
                  <a:pt x="3150" y="14759"/>
                </a:cubicBezTo>
                <a:cubicBezTo>
                  <a:pt x="3150" y="14775"/>
                  <a:pt x="3150" y="14792"/>
                  <a:pt x="3150" y="14808"/>
                </a:cubicBezTo>
              </a:path>
              <a:path w="5806" h="2184">
                <a:moveTo>
                  <a:pt x="2927" y="14412"/>
                </a:moveTo>
                <a:cubicBezTo>
                  <a:pt x="2998" y="14421"/>
                  <a:pt x="3079" y="14421"/>
                  <a:pt x="3150" y="14436"/>
                </a:cubicBezTo>
                <a:cubicBezTo>
                  <a:pt x="3196" y="14446"/>
                  <a:pt x="3324" y="14492"/>
                  <a:pt x="3373" y="14461"/>
                </a:cubicBezTo>
                <a:cubicBezTo>
                  <a:pt x="3373" y="14453"/>
                  <a:pt x="3373" y="14444"/>
                  <a:pt x="3373" y="14436"/>
                </a:cubicBezTo>
              </a:path>
              <a:path w="5806" h="2184">
                <a:moveTo>
                  <a:pt x="3696" y="14089"/>
                </a:moveTo>
                <a:cubicBezTo>
                  <a:pt x="3722" y="14159"/>
                  <a:pt x="3721" y="14212"/>
                  <a:pt x="3721" y="14288"/>
                </a:cubicBezTo>
                <a:cubicBezTo>
                  <a:pt x="3721" y="14398"/>
                  <a:pt x="3708" y="14508"/>
                  <a:pt x="3746" y="14610"/>
                </a:cubicBezTo>
                <a:cubicBezTo>
                  <a:pt x="3765" y="14537"/>
                  <a:pt x="3770" y="14487"/>
                  <a:pt x="3770" y="14412"/>
                </a:cubicBezTo>
                <a:cubicBezTo>
                  <a:pt x="3770" y="14258"/>
                  <a:pt x="3767" y="14114"/>
                  <a:pt x="3746" y="13965"/>
                </a:cubicBezTo>
                <a:cubicBezTo>
                  <a:pt x="3739" y="13911"/>
                  <a:pt x="3746" y="13883"/>
                  <a:pt x="3770" y="13841"/>
                </a:cubicBezTo>
                <a:cubicBezTo>
                  <a:pt x="3847" y="13850"/>
                  <a:pt x="3915" y="13866"/>
                  <a:pt x="3994" y="13866"/>
                </a:cubicBezTo>
                <a:cubicBezTo>
                  <a:pt x="4057" y="13866"/>
                  <a:pt x="4154" y="13858"/>
                  <a:pt x="4217" y="13841"/>
                </a:cubicBezTo>
                <a:cubicBezTo>
                  <a:pt x="4233" y="13833"/>
                  <a:pt x="4250" y="13824"/>
                  <a:pt x="4266" y="13816"/>
                </a:cubicBezTo>
              </a:path>
              <a:path w="5806" h="2184">
                <a:moveTo>
                  <a:pt x="3969" y="14039"/>
                </a:moveTo>
                <a:cubicBezTo>
                  <a:pt x="4013" y="14033"/>
                  <a:pt x="4102" y="13984"/>
                  <a:pt x="4142" y="13990"/>
                </a:cubicBezTo>
                <a:cubicBezTo>
                  <a:pt x="4220" y="14002"/>
                  <a:pt x="4224" y="14033"/>
                  <a:pt x="4217" y="14089"/>
                </a:cubicBezTo>
                <a:cubicBezTo>
                  <a:pt x="4209" y="14148"/>
                  <a:pt x="4189" y="14196"/>
                  <a:pt x="4118" y="14213"/>
                </a:cubicBezTo>
                <a:cubicBezTo>
                  <a:pt x="4041" y="14231"/>
                  <a:pt x="4126" y="14223"/>
                  <a:pt x="4192" y="14263"/>
                </a:cubicBezTo>
                <a:cubicBezTo>
                  <a:pt x="4227" y="14284"/>
                  <a:pt x="4321" y="14330"/>
                  <a:pt x="4316" y="14387"/>
                </a:cubicBezTo>
                <a:cubicBezTo>
                  <a:pt x="4311" y="14444"/>
                  <a:pt x="4255" y="14497"/>
                  <a:pt x="4192" y="14511"/>
                </a:cubicBezTo>
                <a:cubicBezTo>
                  <a:pt x="4119" y="14527"/>
                  <a:pt x="4051" y="14503"/>
                  <a:pt x="3994" y="14486"/>
                </a:cubicBezTo>
                <a:cubicBezTo>
                  <a:pt x="3986" y="14486"/>
                  <a:pt x="3977" y="14486"/>
                  <a:pt x="3969" y="14486"/>
                </a:cubicBezTo>
              </a:path>
              <a:path w="5806" h="2184">
                <a:moveTo>
                  <a:pt x="3746" y="14635"/>
                </a:moveTo>
                <a:cubicBezTo>
                  <a:pt x="3943" y="14635"/>
                  <a:pt x="4344" y="14708"/>
                  <a:pt x="4514" y="14610"/>
                </a:cubicBezTo>
                <a:cubicBezTo>
                  <a:pt x="4522" y="14602"/>
                  <a:pt x="4531" y="14593"/>
                  <a:pt x="4539" y="14585"/>
                </a:cubicBezTo>
              </a:path>
              <a:path w="5806" h="2184">
                <a:moveTo>
                  <a:pt x="4142" y="14833"/>
                </a:moveTo>
                <a:cubicBezTo>
                  <a:pt x="4189" y="14857"/>
                  <a:pt x="4222" y="14814"/>
                  <a:pt x="4291" y="14833"/>
                </a:cubicBezTo>
                <a:cubicBezTo>
                  <a:pt x="4348" y="14849"/>
                  <a:pt x="4432" y="14886"/>
                  <a:pt x="4415" y="14957"/>
                </a:cubicBezTo>
                <a:cubicBezTo>
                  <a:pt x="4398" y="15030"/>
                  <a:pt x="4329" y="15046"/>
                  <a:pt x="4266" y="15056"/>
                </a:cubicBezTo>
                <a:cubicBezTo>
                  <a:pt x="4250" y="15056"/>
                  <a:pt x="4233" y="15056"/>
                  <a:pt x="4217" y="15056"/>
                </a:cubicBezTo>
                <a:cubicBezTo>
                  <a:pt x="4281" y="15095"/>
                  <a:pt x="4331" y="15071"/>
                  <a:pt x="4390" y="15131"/>
                </a:cubicBezTo>
                <a:cubicBezTo>
                  <a:pt x="4445" y="15186"/>
                  <a:pt x="4464" y="15228"/>
                  <a:pt x="4490" y="15304"/>
                </a:cubicBezTo>
                <a:cubicBezTo>
                  <a:pt x="4522" y="15398"/>
                  <a:pt x="4501" y="15426"/>
                  <a:pt x="4490" y="15503"/>
                </a:cubicBezTo>
                <a:cubicBezTo>
                  <a:pt x="4478" y="15584"/>
                  <a:pt x="4466" y="15610"/>
                  <a:pt x="4415" y="15677"/>
                </a:cubicBezTo>
                <a:cubicBezTo>
                  <a:pt x="4385" y="15706"/>
                  <a:pt x="4374" y="15720"/>
                  <a:pt x="4366" y="15751"/>
                </a:cubicBezTo>
                <a:cubicBezTo>
                  <a:pt x="4311" y="15720"/>
                  <a:pt x="4253" y="15681"/>
                  <a:pt x="4217" y="15627"/>
                </a:cubicBezTo>
                <a:cubicBezTo>
                  <a:pt x="4188" y="15584"/>
                  <a:pt x="4178" y="15523"/>
                  <a:pt x="4167" y="15478"/>
                </a:cubicBezTo>
              </a:path>
              <a:path w="5806" h="2184">
                <a:moveTo>
                  <a:pt x="4812" y="14660"/>
                </a:moveTo>
                <a:cubicBezTo>
                  <a:pt x="4902" y="14682"/>
                  <a:pt x="4993" y="14704"/>
                  <a:pt x="5085" y="14709"/>
                </a:cubicBezTo>
                <a:cubicBezTo>
                  <a:pt x="5144" y="14712"/>
                  <a:pt x="5171" y="14734"/>
                  <a:pt x="5234" y="14734"/>
                </a:cubicBezTo>
              </a:path>
              <a:path w="5806" h="2184">
                <a:moveTo>
                  <a:pt x="5507" y="14288"/>
                </a:moveTo>
                <a:cubicBezTo>
                  <a:pt x="5539" y="14342"/>
                  <a:pt x="5531" y="14394"/>
                  <a:pt x="5531" y="14461"/>
                </a:cubicBezTo>
                <a:cubicBezTo>
                  <a:pt x="5531" y="14512"/>
                  <a:pt x="5531" y="14824"/>
                  <a:pt x="5531" y="14709"/>
                </a:cubicBezTo>
                <a:cubicBezTo>
                  <a:pt x="5531" y="14478"/>
                  <a:pt x="5519" y="14237"/>
                  <a:pt x="5556" y="14015"/>
                </a:cubicBezTo>
                <a:cubicBezTo>
                  <a:pt x="5569" y="13935"/>
                  <a:pt x="5566" y="13896"/>
                  <a:pt x="5655" y="13891"/>
                </a:cubicBezTo>
                <a:cubicBezTo>
                  <a:pt x="5735" y="13886"/>
                  <a:pt x="5801" y="13911"/>
                  <a:pt x="5879" y="13915"/>
                </a:cubicBezTo>
                <a:cubicBezTo>
                  <a:pt x="5895" y="13915"/>
                  <a:pt x="5912" y="13915"/>
                  <a:pt x="5928" y="13915"/>
                </a:cubicBezTo>
              </a:path>
              <a:path w="5806" h="2184">
                <a:moveTo>
                  <a:pt x="5904" y="14139"/>
                </a:moveTo>
                <a:cubicBezTo>
                  <a:pt x="5864" y="14198"/>
                  <a:pt x="5860" y="14210"/>
                  <a:pt x="5829" y="14238"/>
                </a:cubicBezTo>
                <a:cubicBezTo>
                  <a:pt x="5869" y="14258"/>
                  <a:pt x="5913" y="14238"/>
                  <a:pt x="5978" y="14238"/>
                </a:cubicBezTo>
                <a:cubicBezTo>
                  <a:pt x="6017" y="14238"/>
                  <a:pt x="6088" y="14264"/>
                  <a:pt x="6102" y="14312"/>
                </a:cubicBezTo>
                <a:cubicBezTo>
                  <a:pt x="6119" y="14370"/>
                  <a:pt x="6102" y="14428"/>
                  <a:pt x="6052" y="14461"/>
                </a:cubicBezTo>
                <a:cubicBezTo>
                  <a:pt x="5986" y="14504"/>
                  <a:pt x="5959" y="14511"/>
                  <a:pt x="5879" y="14511"/>
                </a:cubicBezTo>
                <a:cubicBezTo>
                  <a:pt x="5915" y="14515"/>
                  <a:pt x="6025" y="14535"/>
                  <a:pt x="6052" y="14560"/>
                </a:cubicBezTo>
                <a:cubicBezTo>
                  <a:pt x="6085" y="14591"/>
                  <a:pt x="6117" y="14648"/>
                  <a:pt x="6152" y="14684"/>
                </a:cubicBezTo>
                <a:cubicBezTo>
                  <a:pt x="6184" y="14716"/>
                  <a:pt x="6199" y="14804"/>
                  <a:pt x="6152" y="14833"/>
                </a:cubicBezTo>
                <a:cubicBezTo>
                  <a:pt x="6096" y="14868"/>
                  <a:pt x="6025" y="14880"/>
                  <a:pt x="5953" y="14883"/>
                </a:cubicBezTo>
                <a:cubicBezTo>
                  <a:pt x="5912" y="14883"/>
                  <a:pt x="5904" y="14883"/>
                  <a:pt x="5879" y="14883"/>
                </a:cubicBezTo>
              </a:path>
              <a:path w="5806" h="2184">
                <a:moveTo>
                  <a:pt x="5556" y="14833"/>
                </a:moveTo>
                <a:cubicBezTo>
                  <a:pt x="5606" y="14863"/>
                  <a:pt x="5667" y="14879"/>
                  <a:pt x="5730" y="14883"/>
                </a:cubicBezTo>
                <a:cubicBezTo>
                  <a:pt x="5816" y="14888"/>
                  <a:pt x="5893" y="14920"/>
                  <a:pt x="5978" y="14932"/>
                </a:cubicBezTo>
                <a:cubicBezTo>
                  <a:pt x="6065" y="14944"/>
                  <a:pt x="6179" y="14897"/>
                  <a:pt x="6251" y="14908"/>
                </a:cubicBezTo>
                <a:cubicBezTo>
                  <a:pt x="6273" y="14930"/>
                  <a:pt x="6278" y="14938"/>
                  <a:pt x="6300" y="14932"/>
                </a:cubicBezTo>
              </a:path>
              <a:path w="5806" h="2184">
                <a:moveTo>
                  <a:pt x="5879" y="15081"/>
                </a:moveTo>
                <a:cubicBezTo>
                  <a:pt x="5871" y="15089"/>
                  <a:pt x="5862" y="15098"/>
                  <a:pt x="5854" y="15106"/>
                </a:cubicBezTo>
                <a:cubicBezTo>
                  <a:pt x="5918" y="15145"/>
                  <a:pt x="5983" y="15106"/>
                  <a:pt x="6052" y="15131"/>
                </a:cubicBezTo>
                <a:cubicBezTo>
                  <a:pt x="6088" y="15144"/>
                  <a:pt x="6139" y="15186"/>
                  <a:pt x="6176" y="15205"/>
                </a:cubicBezTo>
                <a:cubicBezTo>
                  <a:pt x="6139" y="15253"/>
                  <a:pt x="6119" y="15313"/>
                  <a:pt x="6052" y="15329"/>
                </a:cubicBezTo>
                <a:cubicBezTo>
                  <a:pt x="5994" y="15343"/>
                  <a:pt x="5954" y="15348"/>
                  <a:pt x="5904" y="15379"/>
                </a:cubicBezTo>
                <a:cubicBezTo>
                  <a:pt x="5958" y="15387"/>
                  <a:pt x="6009" y="15395"/>
                  <a:pt x="6052" y="15429"/>
                </a:cubicBezTo>
                <a:cubicBezTo>
                  <a:pt x="6095" y="15463"/>
                  <a:pt x="6140" y="15523"/>
                  <a:pt x="6152" y="15577"/>
                </a:cubicBezTo>
                <a:cubicBezTo>
                  <a:pt x="6167" y="15644"/>
                  <a:pt x="6161" y="15752"/>
                  <a:pt x="6127" y="15801"/>
                </a:cubicBezTo>
                <a:cubicBezTo>
                  <a:pt x="6104" y="15835"/>
                  <a:pt x="6043" y="15893"/>
                  <a:pt x="6003" y="15900"/>
                </a:cubicBezTo>
                <a:cubicBezTo>
                  <a:pt x="5950" y="15910"/>
                  <a:pt x="5851" y="15879"/>
                  <a:pt x="5804" y="15850"/>
                </a:cubicBezTo>
                <a:cubicBezTo>
                  <a:pt x="5775" y="15832"/>
                  <a:pt x="5691" y="15789"/>
                  <a:pt x="5680" y="15751"/>
                </a:cubicBezTo>
                <a:cubicBezTo>
                  <a:pt x="5680" y="15734"/>
                  <a:pt x="5680" y="15718"/>
                  <a:pt x="5680" y="15701"/>
                </a:cubicBezTo>
              </a:path>
              <a:path w="5806" h="2184">
                <a:moveTo>
                  <a:pt x="6722" y="14908"/>
                </a:moveTo>
                <a:cubicBezTo>
                  <a:pt x="6795" y="14940"/>
                  <a:pt x="6866" y="14978"/>
                  <a:pt x="6945" y="14982"/>
                </a:cubicBezTo>
                <a:cubicBezTo>
                  <a:pt x="6995" y="14982"/>
                  <a:pt x="7012" y="14982"/>
                  <a:pt x="7045" y="14982"/>
                </a:cubicBezTo>
              </a:path>
              <a:path w="5806" h="2184">
                <a:moveTo>
                  <a:pt x="7367" y="14213"/>
                </a:moveTo>
                <a:cubicBezTo>
                  <a:pt x="7367" y="14305"/>
                  <a:pt x="7369" y="14373"/>
                  <a:pt x="7392" y="14461"/>
                </a:cubicBezTo>
                <a:cubicBezTo>
                  <a:pt x="7413" y="14540"/>
                  <a:pt x="7428" y="14631"/>
                  <a:pt x="7441" y="14709"/>
                </a:cubicBezTo>
                <a:cubicBezTo>
                  <a:pt x="7450" y="14763"/>
                  <a:pt x="7458" y="14779"/>
                  <a:pt x="7466" y="14833"/>
                </a:cubicBezTo>
              </a:path>
              <a:path w="5806" h="2184">
                <a:moveTo>
                  <a:pt x="7268" y="14982"/>
                </a:moveTo>
                <a:cubicBezTo>
                  <a:pt x="7425" y="14982"/>
                  <a:pt x="7582" y="14982"/>
                  <a:pt x="7739" y="14982"/>
                </a:cubicBezTo>
              </a:path>
              <a:path w="5806" h="2184">
                <a:moveTo>
                  <a:pt x="7516" y="15180"/>
                </a:moveTo>
                <a:cubicBezTo>
                  <a:pt x="7498" y="15233"/>
                  <a:pt x="7572" y="15205"/>
                  <a:pt x="7640" y="15205"/>
                </a:cubicBezTo>
                <a:cubicBezTo>
                  <a:pt x="7708" y="15205"/>
                  <a:pt x="7756" y="15253"/>
                  <a:pt x="7739" y="15329"/>
                </a:cubicBezTo>
                <a:cubicBezTo>
                  <a:pt x="7727" y="15385"/>
                  <a:pt x="7681" y="15406"/>
                  <a:pt x="7640" y="15429"/>
                </a:cubicBezTo>
                <a:cubicBezTo>
                  <a:pt x="7592" y="15456"/>
                  <a:pt x="7559" y="15452"/>
                  <a:pt x="7516" y="15478"/>
                </a:cubicBezTo>
                <a:cubicBezTo>
                  <a:pt x="7592" y="15488"/>
                  <a:pt x="7626" y="15516"/>
                  <a:pt x="7689" y="15553"/>
                </a:cubicBezTo>
                <a:cubicBezTo>
                  <a:pt x="7761" y="15596"/>
                  <a:pt x="7739" y="15630"/>
                  <a:pt x="7764" y="15701"/>
                </a:cubicBezTo>
                <a:cubicBezTo>
                  <a:pt x="7781" y="15748"/>
                  <a:pt x="7780" y="15816"/>
                  <a:pt x="7764" y="15875"/>
                </a:cubicBezTo>
                <a:cubicBezTo>
                  <a:pt x="7748" y="15933"/>
                  <a:pt x="7710" y="15955"/>
                  <a:pt x="7665" y="15974"/>
                </a:cubicBezTo>
                <a:cubicBezTo>
                  <a:pt x="7598" y="16003"/>
                  <a:pt x="7529" y="15980"/>
                  <a:pt x="7466" y="15949"/>
                </a:cubicBezTo>
                <a:cubicBezTo>
                  <a:pt x="7413" y="15923"/>
                  <a:pt x="7383" y="15891"/>
                  <a:pt x="7342" y="15850"/>
                </a:cubicBezTo>
              </a:path>
              <a:path w="5806" h="2184">
                <a:moveTo>
                  <a:pt x="2158" y="13891"/>
                </a:moveTo>
                <a:cubicBezTo>
                  <a:pt x="2202" y="13864"/>
                  <a:pt x="2278" y="13850"/>
                  <a:pt x="2332" y="13841"/>
                </a:cubicBezTo>
                <a:cubicBezTo>
                  <a:pt x="2411" y="13828"/>
                  <a:pt x="2488" y="13851"/>
                  <a:pt x="2555" y="13891"/>
                </a:cubicBezTo>
                <a:cubicBezTo>
                  <a:pt x="2563" y="13899"/>
                  <a:pt x="2572" y="13907"/>
                  <a:pt x="2580" y="13915"/>
                </a:cubicBezTo>
                <a:cubicBezTo>
                  <a:pt x="2501" y="13981"/>
                  <a:pt x="2449" y="13992"/>
                  <a:pt x="2356" y="14015"/>
                </a:cubicBezTo>
                <a:cubicBezTo>
                  <a:pt x="2331" y="14023"/>
                  <a:pt x="2307" y="14031"/>
                  <a:pt x="2282" y="14039"/>
                </a:cubicBezTo>
                <a:cubicBezTo>
                  <a:pt x="2348" y="14072"/>
                  <a:pt x="2432" y="14073"/>
                  <a:pt x="2505" y="14114"/>
                </a:cubicBezTo>
                <a:cubicBezTo>
                  <a:pt x="2530" y="14128"/>
                  <a:pt x="2606" y="14216"/>
                  <a:pt x="2604" y="14238"/>
                </a:cubicBezTo>
                <a:cubicBezTo>
                  <a:pt x="2600" y="14280"/>
                  <a:pt x="2554" y="14349"/>
                  <a:pt x="2505" y="14362"/>
                </a:cubicBezTo>
                <a:cubicBezTo>
                  <a:pt x="2437" y="14380"/>
                  <a:pt x="2386" y="14387"/>
                  <a:pt x="2307" y="14387"/>
                </a:cubicBezTo>
                <a:cubicBezTo>
                  <a:pt x="2282" y="14387"/>
                  <a:pt x="2274" y="14387"/>
                  <a:pt x="2257" y="14387"/>
                </a:cubicBezTo>
              </a:path>
              <a:path w="5806" h="2184">
                <a:moveTo>
                  <a:pt x="1984" y="14461"/>
                </a:moveTo>
                <a:cubicBezTo>
                  <a:pt x="2257" y="14461"/>
                  <a:pt x="2530" y="14461"/>
                  <a:pt x="2803" y="14461"/>
                </a:cubicBezTo>
              </a:path>
              <a:path w="5806" h="2184">
                <a:moveTo>
                  <a:pt x="2257" y="14759"/>
                </a:moveTo>
                <a:cubicBezTo>
                  <a:pt x="2328" y="14795"/>
                  <a:pt x="2405" y="14758"/>
                  <a:pt x="2480" y="14784"/>
                </a:cubicBezTo>
                <a:cubicBezTo>
                  <a:pt x="2520" y="14798"/>
                  <a:pt x="2619" y="14876"/>
                  <a:pt x="2580" y="14932"/>
                </a:cubicBezTo>
                <a:cubicBezTo>
                  <a:pt x="2531" y="15003"/>
                  <a:pt x="2422" y="15004"/>
                  <a:pt x="2356" y="15032"/>
                </a:cubicBezTo>
                <a:cubicBezTo>
                  <a:pt x="2348" y="15040"/>
                  <a:pt x="2340" y="15048"/>
                  <a:pt x="2332" y="15056"/>
                </a:cubicBezTo>
                <a:cubicBezTo>
                  <a:pt x="2412" y="15064"/>
                  <a:pt x="2443" y="15075"/>
                  <a:pt x="2505" y="15131"/>
                </a:cubicBezTo>
                <a:cubicBezTo>
                  <a:pt x="2554" y="15175"/>
                  <a:pt x="2619" y="15257"/>
                  <a:pt x="2604" y="15329"/>
                </a:cubicBezTo>
                <a:cubicBezTo>
                  <a:pt x="2595" y="15372"/>
                  <a:pt x="2542" y="15429"/>
                  <a:pt x="2505" y="15453"/>
                </a:cubicBezTo>
                <a:cubicBezTo>
                  <a:pt x="2447" y="15491"/>
                  <a:pt x="2353" y="15523"/>
                  <a:pt x="2282" y="15503"/>
                </a:cubicBezTo>
                <a:cubicBezTo>
                  <a:pt x="2207" y="15482"/>
                  <a:pt x="2169" y="15442"/>
                  <a:pt x="2133" y="153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Ink 24"/>
          <p:cNvSpPr/>
          <p:nvPr/>
        </p:nvSpPr>
        <p:spPr>
          <a:xfrm>
            <a:off x="4062240" y="5224320"/>
            <a:ext cx="260640" cy="534960"/>
          </a:xfrm>
          <a:custGeom>
            <a:avLst/>
            <a:gdLst/>
            <a:ahLst/>
            <a:rect l="l" t="t" r="r" b="b"/>
            <a:pathLst>
              <a:path w="720" h="1489">
                <a:moveTo>
                  <a:pt x="11385" y="14585"/>
                </a:moveTo>
                <a:cubicBezTo>
                  <a:pt x="11441" y="14541"/>
                  <a:pt x="11487" y="14515"/>
                  <a:pt x="11559" y="14511"/>
                </a:cubicBezTo>
                <a:cubicBezTo>
                  <a:pt x="11625" y="14507"/>
                  <a:pt x="11685" y="14541"/>
                  <a:pt x="11733" y="14585"/>
                </a:cubicBezTo>
                <a:cubicBezTo>
                  <a:pt x="11793" y="14640"/>
                  <a:pt x="11779" y="14717"/>
                  <a:pt x="11757" y="14784"/>
                </a:cubicBezTo>
                <a:cubicBezTo>
                  <a:pt x="11732" y="14860"/>
                  <a:pt x="11679" y="14901"/>
                  <a:pt x="11633" y="14957"/>
                </a:cubicBezTo>
                <a:cubicBezTo>
                  <a:pt x="11592" y="15006"/>
                  <a:pt x="11525" y="14993"/>
                  <a:pt x="11485" y="14957"/>
                </a:cubicBezTo>
                <a:cubicBezTo>
                  <a:pt x="11477" y="14949"/>
                  <a:pt x="11468" y="14940"/>
                  <a:pt x="11460" y="14932"/>
                </a:cubicBezTo>
                <a:cubicBezTo>
                  <a:pt x="11522" y="14871"/>
                  <a:pt x="11528" y="14885"/>
                  <a:pt x="11609" y="14908"/>
                </a:cubicBezTo>
                <a:cubicBezTo>
                  <a:pt x="11688" y="14930"/>
                  <a:pt x="11762" y="14957"/>
                  <a:pt x="11832" y="14982"/>
                </a:cubicBezTo>
                <a:cubicBezTo>
                  <a:pt x="11896" y="15005"/>
                  <a:pt x="11893" y="14995"/>
                  <a:pt x="11956" y="14982"/>
                </a:cubicBezTo>
              </a:path>
              <a:path w="720" h="1489">
                <a:moveTo>
                  <a:pt x="11286" y="15032"/>
                </a:moveTo>
                <a:cubicBezTo>
                  <a:pt x="11336" y="15061"/>
                  <a:pt x="11422" y="15094"/>
                  <a:pt x="11485" y="15106"/>
                </a:cubicBezTo>
                <a:cubicBezTo>
                  <a:pt x="11548" y="15118"/>
                  <a:pt x="11620" y="15128"/>
                  <a:pt x="11683" y="15131"/>
                </a:cubicBezTo>
                <a:cubicBezTo>
                  <a:pt x="11778" y="15136"/>
                  <a:pt x="11860" y="15145"/>
                  <a:pt x="11956" y="15156"/>
                </a:cubicBezTo>
                <a:cubicBezTo>
                  <a:pt x="11972" y="15156"/>
                  <a:pt x="11989" y="15156"/>
                  <a:pt x="12005" y="15156"/>
                </a:cubicBezTo>
              </a:path>
              <a:path w="720" h="1489">
                <a:moveTo>
                  <a:pt x="11633" y="15354"/>
                </a:moveTo>
                <a:cubicBezTo>
                  <a:pt x="11709" y="15359"/>
                  <a:pt x="11798" y="15356"/>
                  <a:pt x="11857" y="15404"/>
                </a:cubicBezTo>
                <a:cubicBezTo>
                  <a:pt x="11936" y="15468"/>
                  <a:pt x="11841" y="15516"/>
                  <a:pt x="11782" y="15528"/>
                </a:cubicBezTo>
                <a:cubicBezTo>
                  <a:pt x="11733" y="15528"/>
                  <a:pt x="11716" y="15528"/>
                  <a:pt x="11683" y="15528"/>
                </a:cubicBezTo>
                <a:cubicBezTo>
                  <a:pt x="11721" y="15543"/>
                  <a:pt x="11832" y="15588"/>
                  <a:pt x="11857" y="15627"/>
                </a:cubicBezTo>
                <a:cubicBezTo>
                  <a:pt x="11924" y="15730"/>
                  <a:pt x="11980" y="15815"/>
                  <a:pt x="11931" y="15925"/>
                </a:cubicBezTo>
                <a:cubicBezTo>
                  <a:pt x="11903" y="15987"/>
                  <a:pt x="11856" y="16028"/>
                  <a:pt x="11782" y="15999"/>
                </a:cubicBezTo>
                <a:cubicBezTo>
                  <a:pt x="11719" y="15975"/>
                  <a:pt x="11668" y="15935"/>
                  <a:pt x="11633" y="15875"/>
                </a:cubicBezTo>
                <a:cubicBezTo>
                  <a:pt x="11625" y="15858"/>
                  <a:pt x="11617" y="15842"/>
                  <a:pt x="11609" y="158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Ink 25"/>
          <p:cNvSpPr/>
          <p:nvPr/>
        </p:nvSpPr>
        <p:spPr>
          <a:xfrm>
            <a:off x="5919840" y="3286080"/>
            <a:ext cx="730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16446" y="9153"/>
                </a:moveTo>
                <a:cubicBezTo>
                  <a:pt x="16519" y="9133"/>
                  <a:pt x="16569" y="9128"/>
                  <a:pt x="16644" y="91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Ink 26"/>
          <p:cNvSpPr/>
          <p:nvPr/>
        </p:nvSpPr>
        <p:spPr>
          <a:xfrm>
            <a:off x="5938920" y="336708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6495" y="9351"/>
                </a:moveTo>
                <a:cubicBezTo>
                  <a:pt x="16586" y="9351"/>
                  <a:pt x="16677" y="9351"/>
                  <a:pt x="16768" y="9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Ink 27"/>
          <p:cNvSpPr/>
          <p:nvPr/>
        </p:nvSpPr>
        <p:spPr>
          <a:xfrm>
            <a:off x="6340320" y="2473200"/>
            <a:ext cx="169920" cy="268560"/>
          </a:xfrm>
          <a:custGeom>
            <a:avLst/>
            <a:gdLst/>
            <a:ahLst/>
            <a:rect l="l" t="t" r="r" b="b"/>
            <a:pathLst>
              <a:path w="473" h="745">
                <a:moveTo>
                  <a:pt x="17611" y="7417"/>
                </a:moveTo>
                <a:cubicBezTo>
                  <a:pt x="17611" y="7532"/>
                  <a:pt x="17611" y="7549"/>
                  <a:pt x="17611" y="7615"/>
                </a:cubicBezTo>
                <a:cubicBezTo>
                  <a:pt x="17611" y="7518"/>
                  <a:pt x="17620" y="7425"/>
                  <a:pt x="17636" y="7342"/>
                </a:cubicBezTo>
                <a:cubicBezTo>
                  <a:pt x="17655" y="7240"/>
                  <a:pt x="17613" y="7134"/>
                  <a:pt x="17661" y="7045"/>
                </a:cubicBezTo>
                <a:cubicBezTo>
                  <a:pt x="17677" y="7015"/>
                  <a:pt x="17720" y="6932"/>
                  <a:pt x="17760" y="6921"/>
                </a:cubicBezTo>
                <a:cubicBezTo>
                  <a:pt x="17813" y="6906"/>
                  <a:pt x="17882" y="6916"/>
                  <a:pt x="17934" y="6896"/>
                </a:cubicBezTo>
                <a:cubicBezTo>
                  <a:pt x="17995" y="6872"/>
                  <a:pt x="18021" y="6859"/>
                  <a:pt x="18083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Ink 28"/>
          <p:cNvSpPr/>
          <p:nvPr/>
        </p:nvSpPr>
        <p:spPr>
          <a:xfrm>
            <a:off x="6419880" y="2554200"/>
            <a:ext cx="11736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7835" y="7094"/>
                </a:moveTo>
                <a:cubicBezTo>
                  <a:pt x="17914" y="7094"/>
                  <a:pt x="18023" y="7070"/>
                  <a:pt x="18083" y="7119"/>
                </a:cubicBezTo>
                <a:cubicBezTo>
                  <a:pt x="18168" y="7189"/>
                  <a:pt x="18081" y="7232"/>
                  <a:pt x="18033" y="7268"/>
                </a:cubicBezTo>
                <a:cubicBezTo>
                  <a:pt x="18000" y="7293"/>
                  <a:pt x="17967" y="7316"/>
                  <a:pt x="17934" y="7342"/>
                </a:cubicBezTo>
                <a:cubicBezTo>
                  <a:pt x="17996" y="7342"/>
                  <a:pt x="18062" y="7339"/>
                  <a:pt x="18107" y="7392"/>
                </a:cubicBezTo>
                <a:cubicBezTo>
                  <a:pt x="18161" y="7454"/>
                  <a:pt x="18160" y="7482"/>
                  <a:pt x="18107" y="7541"/>
                </a:cubicBezTo>
                <a:cubicBezTo>
                  <a:pt x="18057" y="7597"/>
                  <a:pt x="18023" y="7593"/>
                  <a:pt x="17959" y="7615"/>
                </a:cubicBezTo>
                <a:cubicBezTo>
                  <a:pt x="17911" y="7639"/>
                  <a:pt x="17896" y="7647"/>
                  <a:pt x="17859" y="76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Ink 29"/>
          <p:cNvSpPr/>
          <p:nvPr/>
        </p:nvSpPr>
        <p:spPr>
          <a:xfrm>
            <a:off x="6276960" y="2768760"/>
            <a:ext cx="268200" cy="172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7438" y="7689"/>
                </a:moveTo>
                <a:cubicBezTo>
                  <a:pt x="17523" y="7733"/>
                  <a:pt x="17595" y="7703"/>
                  <a:pt x="17686" y="7689"/>
                </a:cubicBezTo>
                <a:cubicBezTo>
                  <a:pt x="17807" y="7671"/>
                  <a:pt x="18170" y="7664"/>
                  <a:pt x="18157" y="77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Ink 30"/>
          <p:cNvSpPr/>
          <p:nvPr/>
        </p:nvSpPr>
        <p:spPr>
          <a:xfrm>
            <a:off x="6384960" y="2840040"/>
            <a:ext cx="160200" cy="25884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17760" y="7938"/>
                </a:moveTo>
                <a:cubicBezTo>
                  <a:pt x="17743" y="7870"/>
                  <a:pt x="17811" y="7888"/>
                  <a:pt x="17884" y="7888"/>
                </a:cubicBezTo>
                <a:cubicBezTo>
                  <a:pt x="17912" y="7888"/>
                  <a:pt x="18036" y="7877"/>
                  <a:pt x="18033" y="7938"/>
                </a:cubicBezTo>
                <a:cubicBezTo>
                  <a:pt x="18029" y="8009"/>
                  <a:pt x="17981" y="8109"/>
                  <a:pt x="17934" y="8161"/>
                </a:cubicBezTo>
                <a:cubicBezTo>
                  <a:pt x="17914" y="8184"/>
                  <a:pt x="17823" y="8289"/>
                  <a:pt x="17859" y="8210"/>
                </a:cubicBezTo>
                <a:cubicBezTo>
                  <a:pt x="17963" y="8210"/>
                  <a:pt x="17990" y="8211"/>
                  <a:pt x="18083" y="8260"/>
                </a:cubicBezTo>
                <a:cubicBezTo>
                  <a:pt x="18147" y="8294"/>
                  <a:pt x="18207" y="8349"/>
                  <a:pt x="18182" y="8434"/>
                </a:cubicBezTo>
                <a:cubicBezTo>
                  <a:pt x="18164" y="8496"/>
                  <a:pt x="18088" y="8553"/>
                  <a:pt x="18033" y="8582"/>
                </a:cubicBezTo>
                <a:cubicBezTo>
                  <a:pt x="17969" y="8616"/>
                  <a:pt x="17832" y="8628"/>
                  <a:pt x="17760" y="8607"/>
                </a:cubicBezTo>
                <a:cubicBezTo>
                  <a:pt x="17752" y="8599"/>
                  <a:pt x="17743" y="8590"/>
                  <a:pt x="17735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Ink 31"/>
          <p:cNvSpPr/>
          <p:nvPr/>
        </p:nvSpPr>
        <p:spPr>
          <a:xfrm>
            <a:off x="6724800" y="2687760"/>
            <a:ext cx="17280" cy="196560"/>
          </a:xfrm>
          <a:custGeom>
            <a:avLst/>
            <a:gdLst/>
            <a:ahLst/>
            <a:rect l="l" t="t" r="r" b="b"/>
            <a:pathLst>
              <a:path w="51" h="547">
                <a:moveTo>
                  <a:pt x="18678" y="7466"/>
                </a:moveTo>
                <a:cubicBezTo>
                  <a:pt x="18684" y="7574"/>
                  <a:pt x="18703" y="7657"/>
                  <a:pt x="18703" y="7764"/>
                </a:cubicBezTo>
                <a:cubicBezTo>
                  <a:pt x="18703" y="7833"/>
                  <a:pt x="18728" y="7889"/>
                  <a:pt x="18728" y="7962"/>
                </a:cubicBezTo>
                <a:cubicBezTo>
                  <a:pt x="18728" y="7979"/>
                  <a:pt x="18728" y="7995"/>
                  <a:pt x="18728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Ink 32"/>
          <p:cNvSpPr/>
          <p:nvPr/>
        </p:nvSpPr>
        <p:spPr>
          <a:xfrm>
            <a:off x="6670800" y="2759040"/>
            <a:ext cx="187200" cy="19080"/>
          </a:xfrm>
          <a:custGeom>
            <a:avLst/>
            <a:gdLst/>
            <a:ahLst/>
            <a:rect l="l" t="t" r="r" b="b"/>
            <a:pathLst>
              <a:path w="522" h="50">
                <a:moveTo>
                  <a:pt x="18529" y="7714"/>
                </a:moveTo>
                <a:cubicBezTo>
                  <a:pt x="18608" y="7704"/>
                  <a:pt x="18668" y="7689"/>
                  <a:pt x="18752" y="7689"/>
                </a:cubicBezTo>
                <a:cubicBezTo>
                  <a:pt x="18835" y="7689"/>
                  <a:pt x="18900" y="7677"/>
                  <a:pt x="18976" y="7665"/>
                </a:cubicBezTo>
                <a:cubicBezTo>
                  <a:pt x="19017" y="7665"/>
                  <a:pt x="19025" y="7665"/>
                  <a:pt x="19050" y="76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Ink 33"/>
          <p:cNvSpPr/>
          <p:nvPr/>
        </p:nvSpPr>
        <p:spPr>
          <a:xfrm>
            <a:off x="6973920" y="2571840"/>
            <a:ext cx="54000" cy="366480"/>
          </a:xfrm>
          <a:custGeom>
            <a:avLst/>
            <a:gdLst/>
            <a:ahLst/>
            <a:rect l="l" t="t" r="r" b="b"/>
            <a:pathLst>
              <a:path w="150" h="1018">
                <a:moveTo>
                  <a:pt x="19397" y="7144"/>
                </a:moveTo>
                <a:cubicBezTo>
                  <a:pt x="19378" y="7249"/>
                  <a:pt x="19407" y="7308"/>
                  <a:pt x="19422" y="7417"/>
                </a:cubicBezTo>
                <a:cubicBezTo>
                  <a:pt x="19432" y="7493"/>
                  <a:pt x="19460" y="7566"/>
                  <a:pt x="19472" y="7640"/>
                </a:cubicBezTo>
                <a:cubicBezTo>
                  <a:pt x="19484" y="7714"/>
                  <a:pt x="19485" y="7792"/>
                  <a:pt x="19496" y="7863"/>
                </a:cubicBezTo>
                <a:cubicBezTo>
                  <a:pt x="19507" y="7929"/>
                  <a:pt x="19517" y="7997"/>
                  <a:pt x="19521" y="8062"/>
                </a:cubicBezTo>
                <a:cubicBezTo>
                  <a:pt x="19521" y="8111"/>
                  <a:pt x="19521" y="8128"/>
                  <a:pt x="19521" y="81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Ink 34"/>
          <p:cNvSpPr/>
          <p:nvPr/>
        </p:nvSpPr>
        <p:spPr>
          <a:xfrm>
            <a:off x="6269040" y="3224160"/>
            <a:ext cx="741240" cy="27000"/>
          </a:xfrm>
          <a:custGeom>
            <a:avLst/>
            <a:gdLst/>
            <a:ahLst/>
            <a:rect l="l" t="t" r="r" b="b"/>
            <a:pathLst>
              <a:path w="2060" h="76">
                <a:moveTo>
                  <a:pt x="17438" y="9029"/>
                </a:moveTo>
                <a:cubicBezTo>
                  <a:pt x="17419" y="8975"/>
                  <a:pt x="17494" y="9004"/>
                  <a:pt x="17562" y="9004"/>
                </a:cubicBezTo>
                <a:cubicBezTo>
                  <a:pt x="17845" y="9004"/>
                  <a:pt x="18126" y="9001"/>
                  <a:pt x="18405" y="8979"/>
                </a:cubicBezTo>
                <a:cubicBezTo>
                  <a:pt x="18555" y="8967"/>
                  <a:pt x="18704" y="8969"/>
                  <a:pt x="18852" y="8954"/>
                </a:cubicBezTo>
                <a:cubicBezTo>
                  <a:pt x="19028" y="8936"/>
                  <a:pt x="19237" y="8947"/>
                  <a:pt x="19397" y="8979"/>
                </a:cubicBezTo>
                <a:cubicBezTo>
                  <a:pt x="19442" y="8979"/>
                  <a:pt x="19455" y="8976"/>
                  <a:pt x="19472" y="90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Ink 35"/>
          <p:cNvSpPr/>
          <p:nvPr/>
        </p:nvSpPr>
        <p:spPr>
          <a:xfrm>
            <a:off x="6330960" y="3357720"/>
            <a:ext cx="19080" cy="401400"/>
          </a:xfrm>
          <a:custGeom>
            <a:avLst/>
            <a:gdLst/>
            <a:ahLst/>
            <a:rect l="l" t="t" r="r" b="b"/>
            <a:pathLst>
              <a:path w="50" h="1117">
                <a:moveTo>
                  <a:pt x="17587" y="9327"/>
                </a:moveTo>
                <a:cubicBezTo>
                  <a:pt x="17617" y="9377"/>
                  <a:pt x="17630" y="9488"/>
                  <a:pt x="17636" y="9550"/>
                </a:cubicBezTo>
                <a:cubicBezTo>
                  <a:pt x="17659" y="9807"/>
                  <a:pt x="17647" y="10094"/>
                  <a:pt x="17611" y="10344"/>
                </a:cubicBezTo>
                <a:cubicBezTo>
                  <a:pt x="17603" y="10398"/>
                  <a:pt x="17605" y="10423"/>
                  <a:pt x="17636" y="104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Ink 36"/>
          <p:cNvSpPr/>
          <p:nvPr/>
        </p:nvSpPr>
        <p:spPr>
          <a:xfrm>
            <a:off x="6518160" y="3527280"/>
            <a:ext cx="15264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18107" y="9847"/>
                </a:moveTo>
                <a:cubicBezTo>
                  <a:pt x="18175" y="9888"/>
                  <a:pt x="18215" y="9859"/>
                  <a:pt x="18281" y="9847"/>
                </a:cubicBezTo>
                <a:cubicBezTo>
                  <a:pt x="18348" y="9834"/>
                  <a:pt x="18417" y="9848"/>
                  <a:pt x="18479" y="9823"/>
                </a:cubicBezTo>
                <a:cubicBezTo>
                  <a:pt x="18502" y="9800"/>
                  <a:pt x="18506" y="9792"/>
                  <a:pt x="18529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95934b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Find the sine, cosine and tangent of 10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10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13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- 30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1" name="Ink 5"/>
          <p:cNvSpPr/>
          <p:nvPr/>
        </p:nvSpPr>
        <p:spPr>
          <a:xfrm>
            <a:off x="561960" y="2205000"/>
            <a:ext cx="644400" cy="403200"/>
          </a:xfrm>
          <a:custGeom>
            <a:avLst/>
            <a:gdLst/>
            <a:ahLst/>
            <a:rect l="l" t="t" r="r" b="b"/>
            <a:pathLst>
              <a:path w="1787" h="1117">
                <a:moveTo>
                  <a:pt x="2009" y="6127"/>
                </a:moveTo>
                <a:cubicBezTo>
                  <a:pt x="2009" y="6257"/>
                  <a:pt x="2002" y="6374"/>
                  <a:pt x="1984" y="6499"/>
                </a:cubicBezTo>
                <a:cubicBezTo>
                  <a:pt x="1965" y="6628"/>
                  <a:pt x="1974" y="6768"/>
                  <a:pt x="1960" y="6896"/>
                </a:cubicBezTo>
                <a:cubicBezTo>
                  <a:pt x="1951" y="6976"/>
                  <a:pt x="1999" y="7156"/>
                  <a:pt x="1935" y="7218"/>
                </a:cubicBezTo>
                <a:cubicBezTo>
                  <a:pt x="1935" y="7210"/>
                  <a:pt x="1935" y="7201"/>
                  <a:pt x="1935" y="7193"/>
                </a:cubicBezTo>
              </a:path>
              <a:path w="1787" h="1117">
                <a:moveTo>
                  <a:pt x="1563" y="6623"/>
                </a:moveTo>
                <a:cubicBezTo>
                  <a:pt x="1651" y="6623"/>
                  <a:pt x="1730" y="6639"/>
                  <a:pt x="1811" y="6648"/>
                </a:cubicBezTo>
                <a:cubicBezTo>
                  <a:pt x="1926" y="6660"/>
                  <a:pt x="2045" y="6660"/>
                  <a:pt x="2158" y="6672"/>
                </a:cubicBezTo>
                <a:cubicBezTo>
                  <a:pt x="2235" y="6680"/>
                  <a:pt x="2286" y="6687"/>
                  <a:pt x="2356" y="6697"/>
                </a:cubicBezTo>
              </a:path>
              <a:path w="1787" h="1117">
                <a:moveTo>
                  <a:pt x="2729" y="6846"/>
                </a:moveTo>
                <a:cubicBezTo>
                  <a:pt x="2729" y="6770"/>
                  <a:pt x="2732" y="6750"/>
                  <a:pt x="2679" y="6697"/>
                </a:cubicBezTo>
                <a:cubicBezTo>
                  <a:pt x="2623" y="6641"/>
                  <a:pt x="2586" y="6692"/>
                  <a:pt x="2530" y="6722"/>
                </a:cubicBezTo>
                <a:cubicBezTo>
                  <a:pt x="2488" y="6744"/>
                  <a:pt x="2400" y="6799"/>
                  <a:pt x="2381" y="6846"/>
                </a:cubicBezTo>
                <a:cubicBezTo>
                  <a:pt x="2361" y="6895"/>
                  <a:pt x="2334" y="6963"/>
                  <a:pt x="2332" y="7020"/>
                </a:cubicBezTo>
                <a:cubicBezTo>
                  <a:pt x="2331" y="7053"/>
                  <a:pt x="2341" y="7178"/>
                  <a:pt x="2381" y="7193"/>
                </a:cubicBezTo>
                <a:cubicBezTo>
                  <a:pt x="2444" y="7217"/>
                  <a:pt x="2520" y="7233"/>
                  <a:pt x="2580" y="7193"/>
                </a:cubicBezTo>
                <a:cubicBezTo>
                  <a:pt x="2676" y="7130"/>
                  <a:pt x="2684" y="7127"/>
                  <a:pt x="2704" y="6995"/>
                </a:cubicBezTo>
                <a:cubicBezTo>
                  <a:pt x="2704" y="6978"/>
                  <a:pt x="2704" y="6962"/>
                  <a:pt x="2704" y="6945"/>
                </a:cubicBezTo>
                <a:cubicBezTo>
                  <a:pt x="2743" y="7010"/>
                  <a:pt x="2727" y="7075"/>
                  <a:pt x="2778" y="7144"/>
                </a:cubicBezTo>
                <a:cubicBezTo>
                  <a:pt x="2819" y="7199"/>
                  <a:pt x="2825" y="7182"/>
                  <a:pt x="2877" y="7169"/>
                </a:cubicBezTo>
              </a:path>
              <a:path w="1787" h="1117">
                <a:moveTo>
                  <a:pt x="2952" y="6896"/>
                </a:moveTo>
                <a:cubicBezTo>
                  <a:pt x="2970" y="6969"/>
                  <a:pt x="2960" y="6993"/>
                  <a:pt x="2952" y="7045"/>
                </a:cubicBezTo>
                <a:cubicBezTo>
                  <a:pt x="2943" y="7108"/>
                  <a:pt x="2977" y="7175"/>
                  <a:pt x="2977" y="7243"/>
                </a:cubicBezTo>
                <a:cubicBezTo>
                  <a:pt x="2977" y="7164"/>
                  <a:pt x="2998" y="7122"/>
                  <a:pt x="3001" y="7045"/>
                </a:cubicBezTo>
                <a:cubicBezTo>
                  <a:pt x="3004" y="6968"/>
                  <a:pt x="2996" y="6866"/>
                  <a:pt x="3026" y="6796"/>
                </a:cubicBezTo>
                <a:cubicBezTo>
                  <a:pt x="3037" y="6771"/>
                  <a:pt x="3093" y="6681"/>
                  <a:pt x="3125" y="6672"/>
                </a:cubicBezTo>
                <a:cubicBezTo>
                  <a:pt x="3170" y="6659"/>
                  <a:pt x="3248" y="6711"/>
                  <a:pt x="3274" y="6747"/>
                </a:cubicBezTo>
                <a:cubicBezTo>
                  <a:pt x="3309" y="6796"/>
                  <a:pt x="3341" y="6862"/>
                  <a:pt x="3349" y="6921"/>
                </a:cubicBezTo>
                <a:cubicBezTo>
                  <a:pt x="3360" y="7007"/>
                  <a:pt x="3353" y="7091"/>
                  <a:pt x="3324" y="7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Ink 6"/>
          <p:cNvSpPr/>
          <p:nvPr/>
        </p:nvSpPr>
        <p:spPr>
          <a:xfrm>
            <a:off x="1500120" y="2320920"/>
            <a:ext cx="758880" cy="277920"/>
          </a:xfrm>
          <a:custGeom>
            <a:avLst/>
            <a:gdLst/>
            <a:ahLst/>
            <a:rect l="l" t="t" r="r" b="b"/>
            <a:pathLst>
              <a:path w="2110" h="770">
                <a:moveTo>
                  <a:pt x="4167" y="6474"/>
                </a:moveTo>
                <a:cubicBezTo>
                  <a:pt x="4167" y="6642"/>
                  <a:pt x="4173" y="6816"/>
                  <a:pt x="4192" y="6970"/>
                </a:cubicBezTo>
                <a:cubicBezTo>
                  <a:pt x="4202" y="7049"/>
                  <a:pt x="4192" y="7138"/>
                  <a:pt x="4192" y="7218"/>
                </a:cubicBezTo>
                <a:cubicBezTo>
                  <a:pt x="4192" y="7167"/>
                  <a:pt x="4193" y="7148"/>
                  <a:pt x="4217" y="7119"/>
                </a:cubicBezTo>
              </a:path>
              <a:path w="2110" h="770">
                <a:moveTo>
                  <a:pt x="4514" y="6524"/>
                </a:moveTo>
                <a:cubicBezTo>
                  <a:pt x="4559" y="6479"/>
                  <a:pt x="4572" y="6452"/>
                  <a:pt x="4638" y="6449"/>
                </a:cubicBezTo>
                <a:cubicBezTo>
                  <a:pt x="4685" y="6447"/>
                  <a:pt x="4821" y="6439"/>
                  <a:pt x="4812" y="6524"/>
                </a:cubicBezTo>
                <a:cubicBezTo>
                  <a:pt x="4808" y="6562"/>
                  <a:pt x="4726" y="6673"/>
                  <a:pt x="4688" y="6697"/>
                </a:cubicBezTo>
                <a:cubicBezTo>
                  <a:pt x="4644" y="6719"/>
                  <a:pt x="4633" y="6722"/>
                  <a:pt x="4614" y="6747"/>
                </a:cubicBezTo>
                <a:cubicBezTo>
                  <a:pt x="4570" y="6705"/>
                  <a:pt x="4728" y="6720"/>
                  <a:pt x="4762" y="6747"/>
                </a:cubicBezTo>
                <a:cubicBezTo>
                  <a:pt x="4801" y="6779"/>
                  <a:pt x="4829" y="6876"/>
                  <a:pt x="4837" y="6921"/>
                </a:cubicBezTo>
                <a:cubicBezTo>
                  <a:pt x="4847" y="6983"/>
                  <a:pt x="4811" y="7105"/>
                  <a:pt x="4762" y="7144"/>
                </a:cubicBezTo>
                <a:cubicBezTo>
                  <a:pt x="4714" y="7182"/>
                  <a:pt x="4621" y="7191"/>
                  <a:pt x="4564" y="7193"/>
                </a:cubicBezTo>
                <a:cubicBezTo>
                  <a:pt x="4428" y="7198"/>
                  <a:pt x="4472" y="7178"/>
                  <a:pt x="4539" y="7094"/>
                </a:cubicBezTo>
              </a:path>
              <a:path w="2110" h="770">
                <a:moveTo>
                  <a:pt x="5060" y="6548"/>
                </a:moveTo>
                <a:cubicBezTo>
                  <a:pt x="5158" y="6548"/>
                  <a:pt x="5239" y="6528"/>
                  <a:pt x="5333" y="6524"/>
                </a:cubicBezTo>
                <a:cubicBezTo>
                  <a:pt x="5418" y="6521"/>
                  <a:pt x="5405" y="6526"/>
                  <a:pt x="5457" y="6474"/>
                </a:cubicBezTo>
              </a:path>
              <a:path w="2110" h="770">
                <a:moveTo>
                  <a:pt x="5159" y="6548"/>
                </a:moveTo>
                <a:cubicBezTo>
                  <a:pt x="5113" y="6595"/>
                  <a:pt x="5092" y="6617"/>
                  <a:pt x="5060" y="6672"/>
                </a:cubicBezTo>
                <a:cubicBezTo>
                  <a:pt x="5115" y="6694"/>
                  <a:pt x="5164" y="6652"/>
                  <a:pt x="5234" y="6672"/>
                </a:cubicBezTo>
                <a:cubicBezTo>
                  <a:pt x="5294" y="6689"/>
                  <a:pt x="5341" y="6730"/>
                  <a:pt x="5383" y="6772"/>
                </a:cubicBezTo>
                <a:cubicBezTo>
                  <a:pt x="5440" y="6829"/>
                  <a:pt x="5463" y="6881"/>
                  <a:pt x="5507" y="6945"/>
                </a:cubicBezTo>
                <a:cubicBezTo>
                  <a:pt x="5551" y="7010"/>
                  <a:pt x="5530" y="7080"/>
                  <a:pt x="5482" y="7144"/>
                </a:cubicBezTo>
                <a:cubicBezTo>
                  <a:pt x="5438" y="7202"/>
                  <a:pt x="5350" y="7215"/>
                  <a:pt x="5283" y="7218"/>
                </a:cubicBezTo>
                <a:cubicBezTo>
                  <a:pt x="5179" y="7222"/>
                  <a:pt x="5114" y="7242"/>
                  <a:pt x="5184" y="7144"/>
                </a:cubicBezTo>
              </a:path>
              <a:path w="2110" h="770">
                <a:moveTo>
                  <a:pt x="5829" y="6871"/>
                </a:moveTo>
                <a:cubicBezTo>
                  <a:pt x="5978" y="6871"/>
                  <a:pt x="6127" y="6871"/>
                  <a:pt x="6276" y="68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Ink 7"/>
          <p:cNvSpPr/>
          <p:nvPr/>
        </p:nvSpPr>
        <p:spPr>
          <a:xfrm>
            <a:off x="2419200" y="2320920"/>
            <a:ext cx="955800" cy="295200"/>
          </a:xfrm>
          <a:custGeom>
            <a:avLst/>
            <a:gdLst/>
            <a:ahLst/>
            <a:rect l="l" t="t" r="r" b="b"/>
            <a:pathLst>
              <a:path w="2655" h="820">
                <a:moveTo>
                  <a:pt x="6945" y="6449"/>
                </a:moveTo>
                <a:cubicBezTo>
                  <a:pt x="6938" y="6525"/>
                  <a:pt x="6921" y="6569"/>
                  <a:pt x="6921" y="6648"/>
                </a:cubicBezTo>
                <a:cubicBezTo>
                  <a:pt x="6921" y="6800"/>
                  <a:pt x="6922" y="6949"/>
                  <a:pt x="6945" y="7094"/>
                </a:cubicBezTo>
                <a:cubicBezTo>
                  <a:pt x="6948" y="7110"/>
                  <a:pt x="6945" y="7287"/>
                  <a:pt x="6945" y="7218"/>
                </a:cubicBezTo>
              </a:path>
              <a:path w="2655" h="820">
                <a:moveTo>
                  <a:pt x="6722" y="6796"/>
                </a:moveTo>
                <a:cubicBezTo>
                  <a:pt x="6806" y="6766"/>
                  <a:pt x="6906" y="6750"/>
                  <a:pt x="6995" y="6747"/>
                </a:cubicBezTo>
                <a:cubicBezTo>
                  <a:pt x="7100" y="6743"/>
                  <a:pt x="7192" y="6736"/>
                  <a:pt x="7293" y="6722"/>
                </a:cubicBezTo>
                <a:cubicBezTo>
                  <a:pt x="7356" y="6713"/>
                  <a:pt x="7417" y="6717"/>
                  <a:pt x="7466" y="6747"/>
                </a:cubicBezTo>
                <a:cubicBezTo>
                  <a:pt x="7406" y="6807"/>
                  <a:pt x="7373" y="6878"/>
                  <a:pt x="7317" y="6945"/>
                </a:cubicBezTo>
                <a:cubicBezTo>
                  <a:pt x="7267" y="7005"/>
                  <a:pt x="7228" y="7095"/>
                  <a:pt x="7268" y="7169"/>
                </a:cubicBezTo>
                <a:cubicBezTo>
                  <a:pt x="7296" y="7220"/>
                  <a:pt x="7358" y="7222"/>
                  <a:pt x="7392" y="7169"/>
                </a:cubicBezTo>
                <a:cubicBezTo>
                  <a:pt x="7440" y="7093"/>
                  <a:pt x="7441" y="7007"/>
                  <a:pt x="7441" y="6921"/>
                </a:cubicBezTo>
                <a:cubicBezTo>
                  <a:pt x="7441" y="6871"/>
                  <a:pt x="7441" y="6854"/>
                  <a:pt x="7441" y="6821"/>
                </a:cubicBezTo>
                <a:cubicBezTo>
                  <a:pt x="7473" y="6905"/>
                  <a:pt x="7482" y="6982"/>
                  <a:pt x="7516" y="7069"/>
                </a:cubicBezTo>
                <a:cubicBezTo>
                  <a:pt x="7551" y="7159"/>
                  <a:pt x="7570" y="7185"/>
                  <a:pt x="7640" y="7243"/>
                </a:cubicBezTo>
                <a:cubicBezTo>
                  <a:pt x="7686" y="7281"/>
                  <a:pt x="7695" y="7238"/>
                  <a:pt x="7739" y="7193"/>
                </a:cubicBezTo>
              </a:path>
              <a:path w="2655" h="820">
                <a:moveTo>
                  <a:pt x="7764" y="6871"/>
                </a:moveTo>
                <a:cubicBezTo>
                  <a:pt x="7783" y="6967"/>
                  <a:pt x="7789" y="7047"/>
                  <a:pt x="7789" y="7144"/>
                </a:cubicBezTo>
                <a:cubicBezTo>
                  <a:pt x="7789" y="7160"/>
                  <a:pt x="7789" y="7177"/>
                  <a:pt x="7789" y="7193"/>
                </a:cubicBezTo>
                <a:cubicBezTo>
                  <a:pt x="7815" y="7122"/>
                  <a:pt x="7797" y="7066"/>
                  <a:pt x="7813" y="6995"/>
                </a:cubicBezTo>
                <a:cubicBezTo>
                  <a:pt x="7825" y="6943"/>
                  <a:pt x="7857" y="6848"/>
                  <a:pt x="7913" y="6821"/>
                </a:cubicBezTo>
                <a:cubicBezTo>
                  <a:pt x="7986" y="6786"/>
                  <a:pt x="8043" y="6803"/>
                  <a:pt x="8086" y="6871"/>
                </a:cubicBezTo>
                <a:cubicBezTo>
                  <a:pt x="8132" y="6944"/>
                  <a:pt x="8141" y="7015"/>
                  <a:pt x="8161" y="7094"/>
                </a:cubicBezTo>
                <a:cubicBezTo>
                  <a:pt x="8181" y="7174"/>
                  <a:pt x="8156" y="7292"/>
                  <a:pt x="8210" y="7218"/>
                </a:cubicBezTo>
              </a:path>
              <a:path w="2655" h="820">
                <a:moveTo>
                  <a:pt x="8409" y="6573"/>
                </a:moveTo>
                <a:cubicBezTo>
                  <a:pt x="8461" y="6534"/>
                  <a:pt x="8532" y="6486"/>
                  <a:pt x="8607" y="6499"/>
                </a:cubicBezTo>
                <a:cubicBezTo>
                  <a:pt x="8704" y="6516"/>
                  <a:pt x="8758" y="6538"/>
                  <a:pt x="8731" y="6623"/>
                </a:cubicBezTo>
                <a:cubicBezTo>
                  <a:pt x="8700" y="6719"/>
                  <a:pt x="8676" y="6712"/>
                  <a:pt x="8607" y="6772"/>
                </a:cubicBezTo>
                <a:cubicBezTo>
                  <a:pt x="8560" y="6813"/>
                  <a:pt x="8572" y="6812"/>
                  <a:pt x="8508" y="6821"/>
                </a:cubicBezTo>
                <a:cubicBezTo>
                  <a:pt x="8579" y="6765"/>
                  <a:pt x="8593" y="6741"/>
                  <a:pt x="8682" y="6772"/>
                </a:cubicBezTo>
                <a:cubicBezTo>
                  <a:pt x="8747" y="6794"/>
                  <a:pt x="8752" y="6880"/>
                  <a:pt x="8756" y="6945"/>
                </a:cubicBezTo>
                <a:cubicBezTo>
                  <a:pt x="8761" y="7040"/>
                  <a:pt x="8741" y="7091"/>
                  <a:pt x="8682" y="7169"/>
                </a:cubicBezTo>
                <a:cubicBezTo>
                  <a:pt x="8649" y="7213"/>
                  <a:pt x="8586" y="7207"/>
                  <a:pt x="8558" y="7193"/>
                </a:cubicBezTo>
                <a:cubicBezTo>
                  <a:pt x="8508" y="7169"/>
                  <a:pt x="8491" y="7161"/>
                  <a:pt x="8483" y="7119"/>
                </a:cubicBezTo>
              </a:path>
              <a:path w="2655" h="820">
                <a:moveTo>
                  <a:pt x="8979" y="6623"/>
                </a:moveTo>
                <a:cubicBezTo>
                  <a:pt x="8979" y="6720"/>
                  <a:pt x="8969" y="6805"/>
                  <a:pt x="8930" y="6896"/>
                </a:cubicBezTo>
                <a:cubicBezTo>
                  <a:pt x="8898" y="6970"/>
                  <a:pt x="8857" y="7033"/>
                  <a:pt x="8880" y="7119"/>
                </a:cubicBezTo>
                <a:cubicBezTo>
                  <a:pt x="8888" y="7148"/>
                  <a:pt x="8952" y="7258"/>
                  <a:pt x="8979" y="7268"/>
                </a:cubicBezTo>
                <a:cubicBezTo>
                  <a:pt x="9034" y="7288"/>
                  <a:pt x="9111" y="7266"/>
                  <a:pt x="9153" y="7243"/>
                </a:cubicBezTo>
                <a:cubicBezTo>
                  <a:pt x="9217" y="7209"/>
                  <a:pt x="9297" y="7161"/>
                  <a:pt x="9327" y="7094"/>
                </a:cubicBezTo>
                <a:cubicBezTo>
                  <a:pt x="9356" y="7029"/>
                  <a:pt x="9390" y="6888"/>
                  <a:pt x="9376" y="6821"/>
                </a:cubicBezTo>
                <a:cubicBezTo>
                  <a:pt x="9366" y="6773"/>
                  <a:pt x="9274" y="6708"/>
                  <a:pt x="9227" y="6697"/>
                </a:cubicBezTo>
                <a:cubicBezTo>
                  <a:pt x="9178" y="6697"/>
                  <a:pt x="9161" y="6697"/>
                  <a:pt x="9128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Ink 8"/>
          <p:cNvSpPr/>
          <p:nvPr/>
        </p:nvSpPr>
        <p:spPr>
          <a:xfrm>
            <a:off x="768240" y="2867040"/>
            <a:ext cx="27000" cy="339840"/>
          </a:xfrm>
          <a:custGeom>
            <a:avLst/>
            <a:gdLst/>
            <a:ahLst/>
            <a:rect l="l" t="t" r="r" b="b"/>
            <a:pathLst>
              <a:path w="76" h="944">
                <a:moveTo>
                  <a:pt x="2183" y="7962"/>
                </a:moveTo>
                <a:cubicBezTo>
                  <a:pt x="2183" y="8048"/>
                  <a:pt x="2204" y="8125"/>
                  <a:pt x="2208" y="8210"/>
                </a:cubicBezTo>
                <a:cubicBezTo>
                  <a:pt x="2217" y="8386"/>
                  <a:pt x="2207" y="8561"/>
                  <a:pt x="2183" y="8731"/>
                </a:cubicBezTo>
                <a:cubicBezTo>
                  <a:pt x="2177" y="8775"/>
                  <a:pt x="2136" y="8957"/>
                  <a:pt x="2158" y="8880"/>
                </a:cubicBezTo>
                <a:cubicBezTo>
                  <a:pt x="2158" y="8872"/>
                  <a:pt x="2158" y="8863"/>
                  <a:pt x="2158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Ink 9"/>
          <p:cNvSpPr/>
          <p:nvPr/>
        </p:nvSpPr>
        <p:spPr>
          <a:xfrm>
            <a:off x="955800" y="2955960"/>
            <a:ext cx="231480" cy="223920"/>
          </a:xfrm>
          <a:custGeom>
            <a:avLst/>
            <a:gdLst/>
            <a:ahLst/>
            <a:rect l="l" t="t" r="r" b="b"/>
            <a:pathLst>
              <a:path w="646" h="621">
                <a:moveTo>
                  <a:pt x="2927" y="8210"/>
                </a:moveTo>
                <a:cubicBezTo>
                  <a:pt x="2918" y="8280"/>
                  <a:pt x="2902" y="8335"/>
                  <a:pt x="2902" y="8409"/>
                </a:cubicBezTo>
                <a:cubicBezTo>
                  <a:pt x="2902" y="8557"/>
                  <a:pt x="2902" y="8954"/>
                  <a:pt x="2902" y="8806"/>
                </a:cubicBezTo>
              </a:path>
              <a:path w="646" h="621">
                <a:moveTo>
                  <a:pt x="2654" y="8508"/>
                </a:moveTo>
                <a:cubicBezTo>
                  <a:pt x="2786" y="8508"/>
                  <a:pt x="2900" y="8515"/>
                  <a:pt x="3026" y="8533"/>
                </a:cubicBezTo>
                <a:cubicBezTo>
                  <a:pt x="3112" y="8545"/>
                  <a:pt x="3231" y="8549"/>
                  <a:pt x="3299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Ink 10"/>
          <p:cNvSpPr/>
          <p:nvPr/>
        </p:nvSpPr>
        <p:spPr>
          <a:xfrm>
            <a:off x="1357200" y="2894040"/>
            <a:ext cx="2303640" cy="312840"/>
          </a:xfrm>
          <a:custGeom>
            <a:avLst/>
            <a:gdLst/>
            <a:ahLst/>
            <a:rect l="l" t="t" r="r" b="b"/>
            <a:pathLst>
              <a:path w="6401" h="869">
                <a:moveTo>
                  <a:pt x="4068" y="8186"/>
                </a:moveTo>
                <a:cubicBezTo>
                  <a:pt x="4049" y="8288"/>
                  <a:pt x="4043" y="8379"/>
                  <a:pt x="4043" y="8483"/>
                </a:cubicBezTo>
                <a:cubicBezTo>
                  <a:pt x="4043" y="8605"/>
                  <a:pt x="4043" y="8715"/>
                  <a:pt x="4068" y="8830"/>
                </a:cubicBezTo>
                <a:cubicBezTo>
                  <a:pt x="4068" y="8838"/>
                  <a:pt x="4068" y="8847"/>
                  <a:pt x="4068" y="8855"/>
                </a:cubicBezTo>
              </a:path>
              <a:path w="6401" h="869">
                <a:moveTo>
                  <a:pt x="3770" y="8434"/>
                </a:moveTo>
                <a:cubicBezTo>
                  <a:pt x="4035" y="8434"/>
                  <a:pt x="4299" y="8434"/>
                  <a:pt x="4564" y="8434"/>
                </a:cubicBezTo>
                <a:cubicBezTo>
                  <a:pt x="4527" y="8497"/>
                  <a:pt x="4479" y="8504"/>
                  <a:pt x="4440" y="8558"/>
                </a:cubicBezTo>
                <a:cubicBezTo>
                  <a:pt x="4402" y="8610"/>
                  <a:pt x="4325" y="8686"/>
                  <a:pt x="4341" y="8756"/>
                </a:cubicBezTo>
                <a:cubicBezTo>
                  <a:pt x="4363" y="8856"/>
                  <a:pt x="4408" y="8817"/>
                  <a:pt x="4465" y="8806"/>
                </a:cubicBezTo>
                <a:cubicBezTo>
                  <a:pt x="4534" y="8793"/>
                  <a:pt x="4582" y="8773"/>
                  <a:pt x="4589" y="8682"/>
                </a:cubicBezTo>
                <a:cubicBezTo>
                  <a:pt x="4589" y="8531"/>
                  <a:pt x="4568" y="8422"/>
                  <a:pt x="4614" y="8533"/>
                </a:cubicBezTo>
                <a:cubicBezTo>
                  <a:pt x="4621" y="8610"/>
                  <a:pt x="4627" y="8695"/>
                  <a:pt x="4688" y="8756"/>
                </a:cubicBezTo>
                <a:cubicBezTo>
                  <a:pt x="4729" y="8797"/>
                  <a:pt x="4804" y="8822"/>
                  <a:pt x="4862" y="8806"/>
                </a:cubicBezTo>
                <a:cubicBezTo>
                  <a:pt x="4925" y="8788"/>
                  <a:pt x="4909" y="8751"/>
                  <a:pt x="4936" y="8706"/>
                </a:cubicBezTo>
              </a:path>
              <a:path w="6401" h="869">
                <a:moveTo>
                  <a:pt x="4936" y="8458"/>
                </a:moveTo>
                <a:cubicBezTo>
                  <a:pt x="4936" y="8563"/>
                  <a:pt x="4943" y="8666"/>
                  <a:pt x="4961" y="8756"/>
                </a:cubicBezTo>
                <a:cubicBezTo>
                  <a:pt x="4986" y="8879"/>
                  <a:pt x="4955" y="8663"/>
                  <a:pt x="4961" y="8632"/>
                </a:cubicBezTo>
                <a:cubicBezTo>
                  <a:pt x="4979" y="8538"/>
                  <a:pt x="5011" y="8440"/>
                  <a:pt x="5110" y="8434"/>
                </a:cubicBezTo>
                <a:cubicBezTo>
                  <a:pt x="5199" y="8429"/>
                  <a:pt x="5202" y="8488"/>
                  <a:pt x="5234" y="8558"/>
                </a:cubicBezTo>
                <a:cubicBezTo>
                  <a:pt x="5265" y="8626"/>
                  <a:pt x="5304" y="8653"/>
                  <a:pt x="5308" y="8731"/>
                </a:cubicBezTo>
                <a:cubicBezTo>
                  <a:pt x="5310" y="8768"/>
                  <a:pt x="5308" y="8926"/>
                  <a:pt x="5333" y="8806"/>
                </a:cubicBezTo>
              </a:path>
              <a:path w="6401" h="869">
                <a:moveTo>
                  <a:pt x="5606" y="8285"/>
                </a:moveTo>
                <a:cubicBezTo>
                  <a:pt x="5633" y="8329"/>
                  <a:pt x="5646" y="8404"/>
                  <a:pt x="5655" y="8458"/>
                </a:cubicBezTo>
                <a:cubicBezTo>
                  <a:pt x="5678" y="8598"/>
                  <a:pt x="5608" y="8786"/>
                  <a:pt x="5680" y="8905"/>
                </a:cubicBezTo>
                <a:cubicBezTo>
                  <a:pt x="5680" y="8853"/>
                  <a:pt x="5681" y="8835"/>
                  <a:pt x="5705" y="8806"/>
                </a:cubicBezTo>
              </a:path>
              <a:path w="6401" h="869">
                <a:moveTo>
                  <a:pt x="5854" y="8359"/>
                </a:moveTo>
                <a:cubicBezTo>
                  <a:pt x="5922" y="8262"/>
                  <a:pt x="5939" y="8254"/>
                  <a:pt x="6028" y="8210"/>
                </a:cubicBezTo>
                <a:cubicBezTo>
                  <a:pt x="6063" y="8193"/>
                  <a:pt x="6135" y="8201"/>
                  <a:pt x="6152" y="8260"/>
                </a:cubicBezTo>
                <a:cubicBezTo>
                  <a:pt x="6169" y="8320"/>
                  <a:pt x="6114" y="8394"/>
                  <a:pt x="6077" y="8434"/>
                </a:cubicBezTo>
                <a:cubicBezTo>
                  <a:pt x="6052" y="8458"/>
                  <a:pt x="6044" y="8466"/>
                  <a:pt x="6028" y="8483"/>
                </a:cubicBezTo>
                <a:cubicBezTo>
                  <a:pt x="6090" y="8445"/>
                  <a:pt x="6137" y="8463"/>
                  <a:pt x="6201" y="8508"/>
                </a:cubicBezTo>
                <a:cubicBezTo>
                  <a:pt x="6265" y="8552"/>
                  <a:pt x="6273" y="8638"/>
                  <a:pt x="6276" y="8706"/>
                </a:cubicBezTo>
                <a:cubicBezTo>
                  <a:pt x="6281" y="8803"/>
                  <a:pt x="6225" y="8844"/>
                  <a:pt x="6127" y="8855"/>
                </a:cubicBezTo>
                <a:cubicBezTo>
                  <a:pt x="6091" y="8859"/>
                  <a:pt x="5941" y="8862"/>
                  <a:pt x="5928" y="8806"/>
                </a:cubicBezTo>
                <a:cubicBezTo>
                  <a:pt x="5951" y="8783"/>
                  <a:pt x="5959" y="8779"/>
                  <a:pt x="5953" y="8756"/>
                </a:cubicBezTo>
              </a:path>
              <a:path w="6401" h="869">
                <a:moveTo>
                  <a:pt x="6623" y="8260"/>
                </a:moveTo>
                <a:cubicBezTo>
                  <a:pt x="6700" y="8260"/>
                  <a:pt x="6802" y="8267"/>
                  <a:pt x="6871" y="8235"/>
                </a:cubicBezTo>
                <a:cubicBezTo>
                  <a:pt x="6894" y="8212"/>
                  <a:pt x="6898" y="8204"/>
                  <a:pt x="6921" y="8210"/>
                </a:cubicBezTo>
              </a:path>
              <a:path w="6401" h="869">
                <a:moveTo>
                  <a:pt x="6598" y="8285"/>
                </a:moveTo>
                <a:cubicBezTo>
                  <a:pt x="6555" y="8346"/>
                  <a:pt x="6499" y="8383"/>
                  <a:pt x="6524" y="8434"/>
                </a:cubicBezTo>
                <a:cubicBezTo>
                  <a:pt x="6584" y="8457"/>
                  <a:pt x="6613" y="8421"/>
                  <a:pt x="6672" y="8409"/>
                </a:cubicBezTo>
                <a:cubicBezTo>
                  <a:pt x="6719" y="8400"/>
                  <a:pt x="6817" y="8447"/>
                  <a:pt x="6846" y="8483"/>
                </a:cubicBezTo>
                <a:cubicBezTo>
                  <a:pt x="6872" y="8516"/>
                  <a:pt x="6935" y="8619"/>
                  <a:pt x="6945" y="8657"/>
                </a:cubicBezTo>
                <a:cubicBezTo>
                  <a:pt x="6957" y="8702"/>
                  <a:pt x="6951" y="8811"/>
                  <a:pt x="6896" y="8830"/>
                </a:cubicBezTo>
                <a:cubicBezTo>
                  <a:pt x="6861" y="8842"/>
                  <a:pt x="6661" y="8840"/>
                  <a:pt x="6648" y="8781"/>
                </a:cubicBezTo>
                <a:cubicBezTo>
                  <a:pt x="6656" y="8764"/>
                  <a:pt x="6664" y="8748"/>
                  <a:pt x="6672" y="8731"/>
                </a:cubicBezTo>
              </a:path>
              <a:path w="6401" h="869">
                <a:moveTo>
                  <a:pt x="7541" y="8210"/>
                </a:moveTo>
                <a:cubicBezTo>
                  <a:pt x="7506" y="8269"/>
                  <a:pt x="7512" y="8342"/>
                  <a:pt x="7491" y="8409"/>
                </a:cubicBezTo>
                <a:cubicBezTo>
                  <a:pt x="7462" y="8500"/>
                  <a:pt x="7466" y="8582"/>
                  <a:pt x="7466" y="8682"/>
                </a:cubicBezTo>
                <a:cubicBezTo>
                  <a:pt x="7466" y="8705"/>
                  <a:pt x="7472" y="8849"/>
                  <a:pt x="7491" y="8855"/>
                </a:cubicBezTo>
                <a:cubicBezTo>
                  <a:pt x="7499" y="8847"/>
                  <a:pt x="7508" y="8838"/>
                  <a:pt x="7516" y="8830"/>
                </a:cubicBezTo>
              </a:path>
              <a:path w="6401" h="869">
                <a:moveTo>
                  <a:pt x="7293" y="8483"/>
                </a:moveTo>
                <a:cubicBezTo>
                  <a:pt x="7348" y="8455"/>
                  <a:pt x="7423" y="8437"/>
                  <a:pt x="7491" y="8434"/>
                </a:cubicBezTo>
                <a:cubicBezTo>
                  <a:pt x="7637" y="8428"/>
                  <a:pt x="7911" y="8385"/>
                  <a:pt x="8037" y="8458"/>
                </a:cubicBezTo>
                <a:cubicBezTo>
                  <a:pt x="7988" y="8520"/>
                  <a:pt x="7948" y="8557"/>
                  <a:pt x="7888" y="8607"/>
                </a:cubicBezTo>
                <a:cubicBezTo>
                  <a:pt x="7853" y="8636"/>
                  <a:pt x="7776" y="8711"/>
                  <a:pt x="7764" y="8756"/>
                </a:cubicBezTo>
                <a:cubicBezTo>
                  <a:pt x="7747" y="8820"/>
                  <a:pt x="7828" y="8883"/>
                  <a:pt x="7888" y="8880"/>
                </a:cubicBezTo>
                <a:cubicBezTo>
                  <a:pt x="7960" y="8876"/>
                  <a:pt x="8026" y="8762"/>
                  <a:pt x="8037" y="8706"/>
                </a:cubicBezTo>
                <a:cubicBezTo>
                  <a:pt x="8047" y="8655"/>
                  <a:pt x="8037" y="8586"/>
                  <a:pt x="8037" y="8533"/>
                </a:cubicBezTo>
                <a:cubicBezTo>
                  <a:pt x="8046" y="8597"/>
                  <a:pt x="8062" y="8635"/>
                  <a:pt x="8062" y="8706"/>
                </a:cubicBezTo>
                <a:cubicBezTo>
                  <a:pt x="8062" y="8780"/>
                  <a:pt x="8109" y="8803"/>
                  <a:pt x="8161" y="8855"/>
                </a:cubicBezTo>
                <a:cubicBezTo>
                  <a:pt x="8200" y="8894"/>
                  <a:pt x="8202" y="8864"/>
                  <a:pt x="8235" y="8830"/>
                </a:cubicBezTo>
              </a:path>
              <a:path w="6401" h="869">
                <a:moveTo>
                  <a:pt x="8334" y="8508"/>
                </a:moveTo>
                <a:cubicBezTo>
                  <a:pt x="8334" y="8622"/>
                  <a:pt x="8341" y="8723"/>
                  <a:pt x="8359" y="8830"/>
                </a:cubicBezTo>
                <a:cubicBezTo>
                  <a:pt x="8359" y="8847"/>
                  <a:pt x="8359" y="8863"/>
                  <a:pt x="8359" y="8880"/>
                </a:cubicBezTo>
                <a:cubicBezTo>
                  <a:pt x="8359" y="8774"/>
                  <a:pt x="8365" y="8674"/>
                  <a:pt x="8384" y="8582"/>
                </a:cubicBezTo>
                <a:cubicBezTo>
                  <a:pt x="8393" y="8539"/>
                  <a:pt x="8398" y="8451"/>
                  <a:pt x="8458" y="8434"/>
                </a:cubicBezTo>
                <a:cubicBezTo>
                  <a:pt x="8531" y="8414"/>
                  <a:pt x="8597" y="8427"/>
                  <a:pt x="8632" y="8483"/>
                </a:cubicBezTo>
                <a:cubicBezTo>
                  <a:pt x="8673" y="8548"/>
                  <a:pt x="8696" y="8684"/>
                  <a:pt x="8706" y="8756"/>
                </a:cubicBezTo>
                <a:cubicBezTo>
                  <a:pt x="8714" y="8812"/>
                  <a:pt x="8686" y="8953"/>
                  <a:pt x="8657" y="8905"/>
                </a:cubicBezTo>
                <a:cubicBezTo>
                  <a:pt x="8657" y="8855"/>
                  <a:pt x="8657" y="8839"/>
                  <a:pt x="8657" y="8806"/>
                </a:cubicBezTo>
              </a:path>
              <a:path w="6401" h="869">
                <a:moveTo>
                  <a:pt x="9004" y="8086"/>
                </a:moveTo>
                <a:cubicBezTo>
                  <a:pt x="9134" y="8050"/>
                  <a:pt x="9240" y="8009"/>
                  <a:pt x="9376" y="8062"/>
                </a:cubicBezTo>
                <a:cubicBezTo>
                  <a:pt x="9433" y="8084"/>
                  <a:pt x="9400" y="8181"/>
                  <a:pt x="9376" y="8210"/>
                </a:cubicBezTo>
                <a:cubicBezTo>
                  <a:pt x="9327" y="8270"/>
                  <a:pt x="9260" y="8258"/>
                  <a:pt x="9203" y="8285"/>
                </a:cubicBezTo>
                <a:cubicBezTo>
                  <a:pt x="9146" y="8312"/>
                  <a:pt x="9175" y="8324"/>
                  <a:pt x="9103" y="8334"/>
                </a:cubicBezTo>
                <a:cubicBezTo>
                  <a:pt x="9182" y="8309"/>
                  <a:pt x="9253" y="8282"/>
                  <a:pt x="9327" y="8310"/>
                </a:cubicBezTo>
                <a:cubicBezTo>
                  <a:pt x="9387" y="8333"/>
                  <a:pt x="9397" y="8399"/>
                  <a:pt x="9401" y="8458"/>
                </a:cubicBezTo>
                <a:cubicBezTo>
                  <a:pt x="9406" y="8541"/>
                  <a:pt x="9400" y="8591"/>
                  <a:pt x="9351" y="8657"/>
                </a:cubicBezTo>
                <a:cubicBezTo>
                  <a:pt x="9298" y="8729"/>
                  <a:pt x="9218" y="8757"/>
                  <a:pt x="9128" y="8731"/>
                </a:cubicBezTo>
                <a:cubicBezTo>
                  <a:pt x="9081" y="8717"/>
                  <a:pt x="8994" y="8656"/>
                  <a:pt x="8979" y="8607"/>
                </a:cubicBezTo>
                <a:cubicBezTo>
                  <a:pt x="8979" y="8591"/>
                  <a:pt x="8979" y="8574"/>
                  <a:pt x="8979" y="8558"/>
                </a:cubicBezTo>
              </a:path>
              <a:path w="6401" h="869">
                <a:moveTo>
                  <a:pt x="9674" y="8136"/>
                </a:moveTo>
                <a:cubicBezTo>
                  <a:pt x="9636" y="8234"/>
                  <a:pt x="9597" y="8265"/>
                  <a:pt x="9550" y="8359"/>
                </a:cubicBezTo>
                <a:cubicBezTo>
                  <a:pt x="9514" y="8431"/>
                  <a:pt x="9525" y="8502"/>
                  <a:pt x="9525" y="8582"/>
                </a:cubicBezTo>
                <a:cubicBezTo>
                  <a:pt x="9525" y="8646"/>
                  <a:pt x="9571" y="8715"/>
                  <a:pt x="9624" y="8756"/>
                </a:cubicBezTo>
                <a:cubicBezTo>
                  <a:pt x="9687" y="8804"/>
                  <a:pt x="9748" y="8806"/>
                  <a:pt x="9823" y="8806"/>
                </a:cubicBezTo>
                <a:cubicBezTo>
                  <a:pt x="9935" y="8806"/>
                  <a:pt x="10030" y="8749"/>
                  <a:pt x="10096" y="8657"/>
                </a:cubicBezTo>
                <a:cubicBezTo>
                  <a:pt x="10143" y="8591"/>
                  <a:pt x="10167" y="8487"/>
                  <a:pt x="10170" y="8409"/>
                </a:cubicBezTo>
                <a:cubicBezTo>
                  <a:pt x="10174" y="8317"/>
                  <a:pt x="10140" y="8283"/>
                  <a:pt x="10096" y="8210"/>
                </a:cubicBezTo>
                <a:cubicBezTo>
                  <a:pt x="10041" y="8119"/>
                  <a:pt x="10002" y="8111"/>
                  <a:pt x="9897" y="8111"/>
                </a:cubicBezTo>
                <a:cubicBezTo>
                  <a:pt x="9889" y="8111"/>
                  <a:pt x="9880" y="8111"/>
                  <a:pt x="9872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Ink 11"/>
          <p:cNvSpPr/>
          <p:nvPr/>
        </p:nvSpPr>
        <p:spPr>
          <a:xfrm>
            <a:off x="652320" y="2660760"/>
            <a:ext cx="2125800" cy="81000"/>
          </a:xfrm>
          <a:custGeom>
            <a:avLst/>
            <a:gdLst/>
            <a:ahLst/>
            <a:rect l="l" t="t" r="r" b="b"/>
            <a:pathLst>
              <a:path w="5904" h="224">
                <a:moveTo>
                  <a:pt x="1811" y="7590"/>
                </a:moveTo>
                <a:cubicBezTo>
                  <a:pt x="2036" y="7590"/>
                  <a:pt x="2260" y="7580"/>
                  <a:pt x="2480" y="7565"/>
                </a:cubicBezTo>
                <a:cubicBezTo>
                  <a:pt x="3073" y="7524"/>
                  <a:pt x="3702" y="7550"/>
                  <a:pt x="4291" y="7590"/>
                </a:cubicBezTo>
                <a:cubicBezTo>
                  <a:pt x="4552" y="7608"/>
                  <a:pt x="4824" y="7610"/>
                  <a:pt x="5085" y="7615"/>
                </a:cubicBezTo>
                <a:cubicBezTo>
                  <a:pt x="5361" y="7620"/>
                  <a:pt x="5631" y="7607"/>
                  <a:pt x="5904" y="7590"/>
                </a:cubicBezTo>
                <a:cubicBezTo>
                  <a:pt x="6110" y="7577"/>
                  <a:pt x="6319" y="7587"/>
                  <a:pt x="6524" y="7565"/>
                </a:cubicBezTo>
                <a:cubicBezTo>
                  <a:pt x="6763" y="7540"/>
                  <a:pt x="7003" y="7508"/>
                  <a:pt x="7243" y="7491"/>
                </a:cubicBezTo>
                <a:cubicBezTo>
                  <a:pt x="7355" y="7483"/>
                  <a:pt x="7458" y="7488"/>
                  <a:pt x="7565" y="7466"/>
                </a:cubicBezTo>
                <a:cubicBezTo>
                  <a:pt x="7701" y="7438"/>
                  <a:pt x="7645" y="7436"/>
                  <a:pt x="7689" y="73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2:24Z</dcterms:created>
  <dc:creator>jnewman</dc:creator>
  <dc:description/>
  <dc:language>en-US</dc:language>
  <cp:lastModifiedBy>abeason</cp:lastModifiedBy>
  <dcterms:modified xsi:type="dcterms:W3CDTF">2009-12-10T14:49:34Z</dcterms:modified>
  <cp:revision>9</cp:revision>
  <dc:subject/>
  <dc:title>Lesson 5.4 part two</dc:title>
</cp:coreProperties>
</file>